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dt" idx="10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ftr" idx="11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 type="sldNum" idx="12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33B6-C45A-4AB9-B2BE-103F19576A2F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452520" y="217440"/>
            <a:ext cx="5904000" cy="44290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0760" y="491184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スライド番号プレースホルダ 3"/>
          <p:cNvSpPr/>
          <p:nvPr/>
        </p:nvSpPr>
        <p:spPr>
          <a:xfrm>
            <a:off x="3330720" y="924084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F1BD-AD86-405B-A0A4-9FF79E2D02ED}" type="slidenum">
              <a:rPr b="0" lang="ja-JP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D436-C94A-46FE-92E4-EBE59459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153A-2542-4E0C-AE1A-03969C5D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473-6C05-4859-8E31-74E082C25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DB1-D822-454A-BC0B-C2B3338B0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CE691-937A-40F4-B176-117EF4207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BC3BC-AB84-4418-B33F-63276CEFA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CBD3-7201-47EE-83B7-9DF6E001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5C14-14C0-461F-8EBC-2A40A256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0127-C0AC-43A8-BA81-BA6D58E2A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9C5A-B2F6-44EF-80A1-0D6FA4C3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281C-7D2B-43BC-97C1-7A88B5EA8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84D8-7BE4-4D7B-8446-1FCD705E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0D08D-2FD9-4AD4-B7B0-00BDD9B6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ABA2F-A35F-4FE7-A407-D6F7DE72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7CF8-74C7-4513-9266-3F05757D3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2D86C-3990-469C-A6CE-3BFAB00E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8E31-83DE-4A45-826E-049DC687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3A686-DEED-46C1-8F7D-3334D6381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157A0-F144-4FBD-AC8A-997C97C1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964C3-A670-42E5-B558-34583314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23B78-9902-4E20-B48B-D4E4E93E8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6E196-70AA-4FF2-BC06-EB4ED28D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8A9B-FE4E-4471-8E66-C4230853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F1D33A-7583-4D93-8D51-EF274641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D05CA-FE6C-41F1-A38B-2AC9253D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71E99-4E8D-481F-9B19-47C14EF4B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976C2-473A-44FD-84AB-F0082705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0380D-A0CF-4A2C-AD30-5375ADAC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0772D-0AD2-41EA-9B22-458E456F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AEC07-9635-4538-95B0-AC8F6A7C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6ED0-71D0-4593-B165-945310DE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2163-F7A6-4694-A40E-391D70D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96560" y="17280"/>
            <a:ext cx="801828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0F9C-C3AE-45E5-8691-2D7ADCA0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EC25-25BE-4C3B-A054-DFAF76E9A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C409-C4F2-46E6-AE0C-7C1FFA23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0D59-DBC8-48F5-9004-C92422D4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DC020-9450-4BCC-9C56-57273FCA4EED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6"/>
          <p:cNvSpPr/>
          <p:nvPr/>
        </p:nvSpPr>
        <p:spPr>
          <a:xfrm>
            <a:off x="142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円/楕円 11"/>
          <p:cNvSpPr/>
          <p:nvPr/>
        </p:nvSpPr>
        <p:spPr>
          <a:xfrm>
            <a:off x="8489880" y="621504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36AC-D570-4E60-88CA-8A8C6FFFB3B4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直線コネクタ 14"/>
          <p:cNvSpPr/>
          <p:nvPr/>
        </p:nvSpPr>
        <p:spPr>
          <a:xfrm flipV="1">
            <a:off x="0" y="571680"/>
            <a:ext cx="8215200" cy="7128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円/楕円 33"/>
          <p:cNvSpPr/>
          <p:nvPr/>
        </p:nvSpPr>
        <p:spPr>
          <a:xfrm>
            <a:off x="1905120" y="208584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正方形/長方形 16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正方形/長方形 17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正方形/長方形 18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正方形/長方形 19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直線コネクタ 20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直線コネクタ 23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直線コネクタ 24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直線コネクタ 25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直線コネクタ 26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正方形/長方形 28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円/楕円 29"/>
          <p:cNvSpPr/>
          <p:nvPr/>
        </p:nvSpPr>
        <p:spPr>
          <a:xfrm>
            <a:off x="609480" y="101916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円/楕円 30"/>
          <p:cNvSpPr/>
          <p:nvPr/>
        </p:nvSpPr>
        <p:spPr>
          <a:xfrm>
            <a:off x="1309680" y="245736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円/楕円 31"/>
          <p:cNvSpPr/>
          <p:nvPr/>
        </p:nvSpPr>
        <p:spPr>
          <a:xfrm>
            <a:off x="1090440" y="309096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円/楕円 32"/>
          <p:cNvSpPr/>
          <p:nvPr/>
        </p:nvSpPr>
        <p:spPr>
          <a:xfrm>
            <a:off x="1663560" y="337824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95640" y="907920"/>
            <a:ext cx="6264000" cy="2665440"/>
          </a:xfrm>
          <a:prstGeom prst="rect">
            <a:avLst/>
          </a:prstGeom>
          <a:noFill/>
          <a:ln w="57240">
            <a:solidFill>
              <a:srgbClr val="fe863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GP創英角ｺﾞｼｯｸUB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 rot="5400000">
            <a:off x="1285920" y="5416200"/>
            <a:ext cx="4762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0783-E8BF-43E8-9A20-3323103AB42E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 rot="5400000">
            <a:off x="4333680" y="5034960"/>
            <a:ext cx="4762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1F77-529B-47AB-AC73-647DB316F6B1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直線コネクタ 27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GP創英角ｺﾞｼｯｸUB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HGP創英角ｺﾞｼｯｸUB"/>
            </a:endParaRPr>
          </a:p>
          <a:p>
            <a:pPr lvl="1" marL="366840" indent="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731880" algn="ctr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004760" algn="ctr"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279440" algn="ctr">
              <a:spcBef>
                <a:spcPts val="400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27944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279440">
              <a:spcBef>
                <a:spcPts val="400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直線コネクタ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CBA4-E42C-4055-A04F-1B3EA3099F8C}" type="datetime">
              <a:rPr b="0" lang="ja-JP" sz="1200" spc="-1" strike="noStrike">
                <a:solidFill>
                  <a:srgbClr val="575f6d"/>
                </a:solidFill>
                <a:latin typeface="Times New Roman"/>
              </a:rPr>
              <a:t>26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直線コネクタ 6"/>
          <p:cNvSpPr/>
          <p:nvPr/>
        </p:nvSpPr>
        <p:spPr>
          <a:xfrm>
            <a:off x="142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1" name="直線コネクタ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正方形/長方形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3" name="直線コネクタ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円/楕円 11"/>
          <p:cNvSpPr/>
          <p:nvPr/>
        </p:nvSpPr>
        <p:spPr>
          <a:xfrm>
            <a:off x="8489880" y="621504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BB89A-6467-4D5A-8EDE-4D7FEC7B3732}" type="slidenum">
              <a:rPr b="1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直線コネクタ 14"/>
          <p:cNvSpPr/>
          <p:nvPr/>
        </p:nvSpPr>
        <p:spPr>
          <a:xfrm flipV="1">
            <a:off x="0" y="620640"/>
            <a:ext cx="8388360" cy="2232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2556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195640" y="907920"/>
            <a:ext cx="6264000" cy="2665440"/>
          </a:xfrm>
          <a:prstGeom prst="rect">
            <a:avLst/>
          </a:prstGeom>
          <a:noFill/>
          <a:ln w="57240">
            <a:solidFill>
              <a:srgbClr val="fe8637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Arial Black"/>
              </a:rPr>
              <a:t>会議運営マニュアル</a:t>
            </a:r>
            <a:endParaRPr b="0" lang="en-US" sz="5400" spc="-1" strike="noStrike">
              <a:solidFill>
                <a:srgbClr val="000000"/>
              </a:solidFill>
              <a:latin typeface="HGP創英角ｺﾞｼｯｸU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575f6d"/>
                </a:solidFill>
                <a:latin typeface="HGP創英角ｺﾞｼｯｸUB"/>
              </a:rPr>
              <a:t>目次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468360" y="765000"/>
          <a:ext cx="8028000" cy="5775480"/>
        </p:xfrm>
        <a:graphic>
          <a:graphicData uri="http://schemas.openxmlformats.org/drawingml/2006/table">
            <a:tbl>
              <a:tblPr/>
              <a:tblGrid>
                <a:gridCol w="222120"/>
                <a:gridCol w="3270240"/>
                <a:gridCol w="647640"/>
                <a:gridCol w="647640"/>
                <a:gridCol w="755640"/>
                <a:gridCol w="1744920"/>
                <a:gridCol w="739800"/>
              </a:tblGrid>
              <a:tr h="3412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1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］ 開催する会議の種類を明確にす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会議の目的を考え、どの種類の会議なのかを明確に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2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］ 会議の準備を行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会議の場所を確保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必要な備品を準備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会議当日に使用する資料を準備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3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］ 召集の連絡をす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関係者に必要な準備を依頼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260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関係者に必要な情報を提供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4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］ 会議を実施す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議事録（会議運営シート・その他書類）を全員が見られる状態に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終了時刻、今日の議題を確認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議事録を作成しながら進め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4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終了前に決まったことの再確認、次の会議の日程調整を行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1280">
                <a:tc gridSpan="7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［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5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］ 議事録を送付す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75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議事録を関係者全員に送付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◆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次の会議に必要な準備などがあれば依頼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 Black"/>
                          <a:ea typeface="HGP創英角ｺﾞｼｯｸUB"/>
                        </a:rPr>
                        <a:t>・・・・・・・・・・・・・・・・・・・・・・・・・・・・・・・・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1457-F7EB-49B4-96B0-9E9C19A47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［</a:t>
            </a:r>
            <a:r>
              <a:rPr b="0" lang="en-US" sz="3000" spc="-1" strike="noStrike">
                <a:solidFill>
                  <a:srgbClr val="575f6d"/>
                </a:solidFill>
                <a:latin typeface="Arial Black"/>
              </a:rPr>
              <a:t>1</a:t>
            </a: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］ 開催する会議の種類を明確にする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765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の目的を考え、どの種類の会議なのかを明確に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8920" y="1268280"/>
          <a:ext cx="8426160" cy="4737240"/>
        </p:xfrm>
        <a:graphic>
          <a:graphicData uri="http://schemas.openxmlformats.org/drawingml/2006/table">
            <a:tbl>
              <a:tblPr/>
              <a:tblGrid>
                <a:gridCol w="2089080"/>
                <a:gridCol w="2519280"/>
                <a:gridCol w="649440"/>
                <a:gridCol w="316836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会議の種類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目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時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8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準備するも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98d9"/>
                    </a:solidFill>
                  </a:tcPr>
                </a:tc>
              </a:tr>
              <a:tr h="7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①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企画会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プロジェクトの最初。何を実施するのか案を出したり、決定したりする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会議運営シート［企画会議用］ </a:t>
                      </a:r>
                      <a:r>
                        <a:rPr b="0" lang="ja-JP" sz="1400" spc="-1" strike="noStrike">
                          <a:solidFill>
                            <a:srgbClr val="fe8637"/>
                          </a:solidFill>
                          <a:latin typeface="Century Schoolbook"/>
                          <a:ea typeface="HGP創英角ｺﾞｼｯｸUB"/>
                        </a:rPr>
                        <a:t>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②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キックオフ会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プロジェクトが本格的に始動。各担当の役割分担などを行う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9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会議運営シート［キックオフ会議用］ </a:t>
                      </a:r>
                      <a:r>
                        <a:rPr b="0" lang="ja-JP" sz="1400" spc="-1" strike="noStrike">
                          <a:solidFill>
                            <a:srgbClr val="fe8637"/>
                          </a:solidFill>
                          <a:latin typeface="Century Schoolbook"/>
                          <a:ea typeface="HGP創英角ｺﾞｼｯｸUB"/>
                        </a:rPr>
                        <a:t>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③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状況報告会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プロジェクトの進捗状況確認や認識、方針を合わせる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2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スケジュール、役割分担表 な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④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状況改善会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問題が発生したとき、また良くない状況があるときに、それを解決する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45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会議運営シート［状況改善会議］ </a:t>
                      </a:r>
                      <a:r>
                        <a:rPr b="0" lang="ja-JP" sz="1400" spc="-1" strike="noStrike">
                          <a:solidFill>
                            <a:srgbClr val="fe8637"/>
                          </a:solidFill>
                          <a:latin typeface="Century Schoolbook"/>
                          <a:ea typeface="HGP創英角ｺﾞｼｯｸUB"/>
                        </a:rPr>
                        <a:t>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⑤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直前会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イベントがある場合などに行う。開催直前に準備物や当日の動きを再確認する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役割分担表、準備物一覧 な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⑥</a:t>
                      </a: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終結会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プロジェクトを振り返り、反省点と改善案を出す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30</a:t>
                      </a: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Arial"/>
                          <a:ea typeface="HGP創英角ｺﾞｼｯｸUB"/>
                        </a:rPr>
                        <a:t>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Century Schoolbook"/>
                          <a:ea typeface="HGP創英角ｺﾞｼｯｸUB"/>
                        </a:rPr>
                        <a:t>プロジェクト終結会議報告書 な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entury Schoolbook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566720" y="6058080"/>
            <a:ext cx="74772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時間は会議開催時間の目安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 </a:t>
            </a:r>
            <a:r>
              <a:rPr b="0" lang="ja-JP" sz="1400" spc="-1" strike="noStrike">
                <a:solidFill>
                  <a:srgbClr val="fe8637"/>
                </a:solidFill>
                <a:latin typeface="Century Schoolbook"/>
                <a:ea typeface="HGP創英角ｺﾞｼｯｸUB"/>
              </a:rPr>
              <a:t>★</a:t>
            </a:r>
            <a:r>
              <a:rPr b="0" lang="ja-JP" sz="1400" spc="-1" strike="noStrike">
                <a:solidFill>
                  <a:srgbClr val="000000"/>
                </a:solidFill>
                <a:latin typeface="Century Schoolbook"/>
                <a:ea typeface="HGP創英角ｺﾞｼｯｸUB"/>
              </a:rPr>
              <a:t>印の書類は、テンプレートがありま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4280-9B41-4A7F-B53C-B023190A47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［</a:t>
            </a:r>
            <a:r>
              <a:rPr b="0" lang="en-US" sz="3000" spc="-1" strike="noStrike">
                <a:solidFill>
                  <a:srgbClr val="575f6d"/>
                </a:solidFill>
                <a:latin typeface="Arial Black"/>
              </a:rPr>
              <a:t>2</a:t>
            </a: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］ 会議の準備を行う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765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の場所を確保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2457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必要な備品を準備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48340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当日に使用する資料を準備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2" name=""/>
          <p:cNvSpPr/>
          <p:nvPr/>
        </p:nvSpPr>
        <p:spPr>
          <a:xfrm>
            <a:off x="4182480" y="1166760"/>
            <a:ext cx="4658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参加者の予定を確認した後、会議室の予約など、実施する場所を確保し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予約を先延ばしにして使用できなくなると、日程の再調整が必要になり、二度手間で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場所の確保は早めに行い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3" name=""/>
          <p:cNvSpPr/>
          <p:nvPr/>
        </p:nvSpPr>
        <p:spPr>
          <a:xfrm>
            <a:off x="4266720" y="2889360"/>
            <a:ext cx="651600" cy="16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に必要なものを洗い出し、準備し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この会議のやり方では、全員で議事録を確認しながら会議を進めますので、パソコン、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ロジェクタが必要です。プロジェクタが準備できない場合は、議事録に使用するテンプレート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を大きくプリントした用紙などを準備し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ホワイトボード、マーカー、付箋紙、時計、模造紙などもあったほうが良いで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時計は残り時間を意識しやすいよう、アナログのものがベストで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4" name=""/>
          <p:cNvSpPr/>
          <p:nvPr/>
        </p:nvSpPr>
        <p:spPr>
          <a:xfrm>
            <a:off x="4176000" y="5262480"/>
            <a:ext cx="55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を実施する際、参加者の手元にあったほうが良い資料は、招集者が全員分印刷して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準備しておきます。（企画書、スケジュール表、役割分担表、参考資料など）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また、配布する資料は最新の状態か、準備する前に再度確認し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AF66-E8EB-4324-B3FE-F315FB8770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［</a:t>
            </a:r>
            <a:r>
              <a:rPr b="0" lang="en-US" sz="3000" spc="-1" strike="noStrike">
                <a:solidFill>
                  <a:srgbClr val="575f6d"/>
                </a:solidFill>
                <a:latin typeface="Arial Black"/>
              </a:rPr>
              <a:t>3</a:t>
            </a: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］ 召集の連絡をする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765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関係者に必要な準備を依頼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3681360"/>
            <a:ext cx="84247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関係者に必要な情報を提供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Arial"/>
                <a:ea typeface="HGP創英角ｺﾞｼｯｸUB"/>
              </a:rPr>
              <a:t>※</a:t>
            </a:r>
            <a:r>
              <a:rPr b="0" lang="ja-JP" sz="1400" spc="-1" strike="noStrike" u="sng">
                <a:solidFill>
                  <a:srgbClr val="ff0000"/>
                </a:solidFill>
                <a:uFillTx/>
                <a:latin typeface="Arial"/>
                <a:ea typeface="HGP創英角ｺﾞｼｯｸUB"/>
              </a:rPr>
              <a:t>会議招集メールは次スライドのひな形を参照してください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"/>
          <p:cNvSpPr/>
          <p:nvPr/>
        </p:nvSpPr>
        <p:spPr>
          <a:xfrm>
            <a:off x="2877480" y="1166760"/>
            <a:ext cx="3522240" cy="24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企画会議に案を持ち寄る場合・・・・・案を考え、企画書にまとめてもらうよう依頼し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同じ形式で書いてもらうと、比較して見やすくなり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期日を決め、事前に提出してもらい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進捗を報告してもらう場合・・・・・・・・各担当者に、進捗状況が報告できるよう、まとめてもらい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困っていることなども会議で挙げてもらうよう依頼し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状況改善会議を行う場合・・・・・・・・・会議までに改善案を各自考えておいてもらい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終結会議を行う場合・・・・・・・・・・・・・プロジェクト実行において感じた問題点、良かったことなど、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までに各自まとめておいてもらい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9" name=""/>
          <p:cNvSpPr/>
          <p:nvPr/>
        </p:nvSpPr>
        <p:spPr>
          <a:xfrm>
            <a:off x="2552040" y="4249800"/>
            <a:ext cx="31780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会議の日程、開始時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/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終了時刻、開催場所、準備が必要なこと・物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議題、会議の目的・ゴール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案を考えるのに必要なデータ、参考資料、招集者の意見、提出期限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・事前記入の項目を埋めた会議運営シート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運営シートを利用する会議の場合）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0" name=""/>
          <p:cNvSpPr/>
          <p:nvPr/>
        </p:nvSpPr>
        <p:spPr>
          <a:xfrm>
            <a:off x="611280" y="5634000"/>
            <a:ext cx="6229080" cy="963720"/>
          </a:xfrm>
          <a:prstGeom prst="roundRect">
            <a:avLst>
              <a:gd name="adj" fmla="val 7764"/>
            </a:avLst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70000" indent="-270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創英角ｺﾞｼｯｸUB"/>
              </a:rPr>
              <a:t>＜議題・ゴール設定のルール＞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ff"/>
                </a:solidFill>
                <a:latin typeface="Arial"/>
                <a:ea typeface="HGP創英角ｺﾞｼｯｸUB"/>
              </a:rPr>
              <a:t>・</a:t>
            </a:r>
            <a:r>
              <a:rPr b="0" lang="ja-JP" sz="1800" spc="-1" strike="noStrike" u="sng">
                <a:solidFill>
                  <a:srgbClr val="0000ff"/>
                </a:solidFill>
                <a:uFillTx/>
                <a:latin typeface="Arial"/>
                <a:ea typeface="HGP創英角ｺﾞｼｯｸUB"/>
              </a:rPr>
              <a:t>あいまいな言葉は使用しない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0000" indent="-2700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創英角ｺﾞｼｯｸUB"/>
              </a:rPr>
              <a:t>　</a:t>
            </a:r>
            <a:r>
              <a:rPr b="0" lang="en-US" sz="1400" spc="-1" strike="noStrike">
                <a:solidFill>
                  <a:srgbClr val="0000ff"/>
                </a:solidFill>
                <a:latin typeface="Arial"/>
                <a:ea typeface="HGP創英角ｺﾞｼｯｸUB"/>
              </a:rPr>
              <a:t>※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創英角ｺﾞｼｯｸUB"/>
              </a:rPr>
              <a:t>全員が同じ認識を持てない言葉、「○○について」などは禁止！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41A4-82CB-48D0-8DC4-1A4218B0DBD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[</a:t>
            </a:r>
            <a:r>
              <a:rPr b="0" lang="ja-JP" sz="3000" spc="-1" strike="noStrike">
                <a:solidFill>
                  <a:srgbClr val="575f6d"/>
                </a:solidFill>
                <a:latin typeface="HGP創英角ｺﾞｼｯｸUB"/>
              </a:rPr>
              <a:t>参考テンプレート</a:t>
            </a:r>
            <a:r>
              <a:rPr b="0" lang="en-US" sz="3000" spc="-1" strike="noStrike">
                <a:solidFill>
                  <a:srgbClr val="575f6d"/>
                </a:solidFill>
                <a:latin typeface="HGP創英角ｺﾞｼｯｸUB"/>
              </a:rPr>
              <a:t>]</a:t>
            </a:r>
            <a:r>
              <a:rPr b="0" lang="ja-JP" sz="3000" spc="-1" strike="noStrike">
                <a:solidFill>
                  <a:srgbClr val="575f6d"/>
                </a:solidFill>
                <a:latin typeface="HGP創英角ｺﾞｼｯｸUB"/>
              </a:rPr>
              <a:t>会議招集メール　ひな形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2" name=""/>
          <p:cNvSpPr/>
          <p:nvPr/>
        </p:nvSpPr>
        <p:spPr>
          <a:xfrm>
            <a:off x="431640" y="1197000"/>
            <a:ext cx="6804360" cy="54356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件名：［重要］　○○会議招集連絡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各位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お疲れ様です。○○です。下記のとおり、○○会議を開催します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会議運営シートを本メールに添付します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添付ファイル：○○）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会議参加前に必ずご一読ください。不明な点は、私までおたずねください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会議に参加できない方は、○月○日○時までに、本メールの返信にて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全員宛てに不参加連絡をお願いします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また、会議に参加できない方も、下記の通り、提出期限までに○○案を送ってください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＊＊＊＊＊＊＊＊＊＊＊＊＊＊＊＊＊＊＊＊＊＊＊＊＊＊＊＊＊＊＊＊＊＊＊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日程：○月○日（○）　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場所：○○会議室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的：○○についての○○のため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ゴール：○○を決定し、担当と期日の確定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会議前に下記の通り、各自○○について意見をください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提出期限：○月○日（○）○時まで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提出方法：メール本文または資料添付にて、○○宛てに本メールの返信にて送ってください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○○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案を考えるために必要なデータ、参考資料は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種類です。本メールに添付します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（添付ファイル：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①○○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、②○○）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＊＊＊＊＊＊＊＊＊＊＊＊＊＊＊＊＊＊＊＊＊＊＊＊＊＊＊＊＊＊＊＊＊＊＊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どうぞよろしくお願いします。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"/>
          <p:cNvSpPr/>
          <p:nvPr/>
        </p:nvSpPr>
        <p:spPr>
          <a:xfrm>
            <a:off x="449280" y="73512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0000"/>
                </a:solidFill>
                <a:latin typeface="Arial"/>
                <a:ea typeface="HGP創英角ｺﾞｼｯｸUB"/>
              </a:rPr>
              <a:t>会議を招集する際は、以下の文面を参考にしてください。○○には適切な情報を入力してください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55F7-3AF7-4E62-B230-F2BA0A3919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［</a:t>
            </a:r>
            <a:r>
              <a:rPr b="0" lang="en-US" sz="3000" spc="-1" strike="noStrike">
                <a:solidFill>
                  <a:srgbClr val="575f6d"/>
                </a:solidFill>
                <a:latin typeface="Arial Black"/>
              </a:rPr>
              <a:t>4</a:t>
            </a: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］ 会議を実施する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765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議事録（会議運営シート・その他書類）を全員が見られる状態に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216864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終了時刻、今日の議題を確認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"/>
          <p:cNvSpPr/>
          <p:nvPr/>
        </p:nvSpPr>
        <p:spPr>
          <a:xfrm>
            <a:off x="250920" y="3716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議事録を作成しながら進め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522936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終了前に決まったことの再確認、次の会議の日程調整を行う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9" name=""/>
          <p:cNvSpPr/>
          <p:nvPr/>
        </p:nvSpPr>
        <p:spPr>
          <a:xfrm>
            <a:off x="3936240" y="1177920"/>
            <a:ext cx="11170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中、全員で議事録を見ながら会議を進めます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人なら一緒にパソコンを見ながら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でも良いですが、それ以上の場合は、プロジェクタを準備して投影し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プロジェクタがない場合は、大きく印刷した議事録を中央に置くなどしま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0" name=""/>
          <p:cNvSpPr/>
          <p:nvPr/>
        </p:nvSpPr>
        <p:spPr>
          <a:xfrm>
            <a:off x="4192200" y="2625840"/>
            <a:ext cx="46584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の最初に、招集者は時計を示して会議の終了時刻を知らせ、全員に意識させ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議題も読み上げ、何を決めるのかをはっきりと伝え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どの議題に何分の時間をかけるのかも決めておくと良いで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"/>
          <p:cNvSpPr/>
          <p:nvPr/>
        </p:nvSpPr>
        <p:spPr>
          <a:xfrm>
            <a:off x="4093560" y="4162320"/>
            <a:ext cx="103428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議事録は会議中に書記が書き込んでいきます。（メモをとる代わりに、議事録に直接記録する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イメージです）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全員が見ている中で書き込み、認識の違いや記録のモレはその場で指摘してもらい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"/>
          <p:cNvSpPr/>
          <p:nvPr/>
        </p:nvSpPr>
        <p:spPr>
          <a:xfrm>
            <a:off x="4380840" y="5697360"/>
            <a:ext cx="37872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を終了する前に、招集者がその日決まった内容を読み上げ、認識のズレなどがないか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確認します。次の会議の日程調整もその場でしておくと良いでしょう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その日の会議自体の反省もすると、会議のやり方をブラッシュアップしていくことができ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3E8B-1B8B-439C-BC3D-D6B51A8CB1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6560" y="17280"/>
            <a:ext cx="801828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［</a:t>
            </a:r>
            <a:r>
              <a:rPr b="0" lang="en-US" sz="3000" spc="-1" strike="noStrike">
                <a:solidFill>
                  <a:srgbClr val="575f6d"/>
                </a:solidFill>
                <a:latin typeface="Arial Black"/>
              </a:rPr>
              <a:t>5</a:t>
            </a:r>
            <a:r>
              <a:rPr b="0" lang="ja-JP" sz="3000" spc="-1" strike="noStrike">
                <a:solidFill>
                  <a:srgbClr val="575f6d"/>
                </a:solidFill>
                <a:latin typeface="Arial Black"/>
              </a:rPr>
              <a:t>］ 議事録を送付する</a:t>
            </a:r>
            <a:endParaRPr b="0" lang="en-US" sz="3000" spc="-1" strike="noStrike">
              <a:solidFill>
                <a:srgbClr val="575f6d"/>
              </a:solidFill>
              <a:latin typeface="HGP創英角ｺﾞｼｯｸUB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76500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議事録を関係者全員に送付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"/>
          <p:cNvSpPr/>
          <p:nvPr/>
        </p:nvSpPr>
        <p:spPr>
          <a:xfrm>
            <a:off x="250920" y="350028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◆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次の会議に必要な準備などがあれば依頼する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6" name=""/>
          <p:cNvSpPr/>
          <p:nvPr/>
        </p:nvSpPr>
        <p:spPr>
          <a:xfrm>
            <a:off x="1937160" y="1146240"/>
            <a:ext cx="542340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会議終了後は、書記が会議中に作成した議事録（会議運営シート・その他書類）を関係者全員に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送付します。送付はメールなどを利用し、できればその日のうちに送ります。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時間が経つと、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参加者の記憶もあいまいになってしまいます）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各担当が何をいつまでにするのか、など、会議で決まった重要なことは、メール本文にも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記載したほうが良いでしょう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7" name=""/>
          <p:cNvSpPr/>
          <p:nvPr/>
        </p:nvSpPr>
        <p:spPr>
          <a:xfrm>
            <a:off x="4375080" y="3897360"/>
            <a:ext cx="63468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議事録送付時に、次の会議の日程も知らせます。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※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ここで日程を知らせますが、次回会議の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召集は、また改めて行います）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また、各自が準備すべきもの、資料などがあれば、そのメールで依頼し、早めに準備にとりかかって</a:t>
            </a:r>
            <a:br>
              <a:rPr sz="1600"/>
            </a:br>
            <a:r>
              <a:rPr b="0" lang="ja-JP" sz="16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もらえるようにします。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A65-5803-4319-9EF7-DBF44E9AD4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 2"/>
          <p:cNvSpPr/>
          <p:nvPr/>
        </p:nvSpPr>
        <p:spPr>
          <a:xfrm>
            <a:off x="8462880" y="623412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5C2D-20E2-495A-9603-72E7C99F9B84}" type="slidenum">
              <a:rPr b="1" lang="ja-JP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954000" y="4365720"/>
            <a:ext cx="7236000" cy="1584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Internet Explorer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 Vista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Windows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ロゴは、米国 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Microsoft Corporation 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および</a:t>
            </a:r>
            <a:r>
              <a:rPr b="0" lang="en-US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/</a:t>
            </a: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またはその関連会社の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その他、記載されている会社名および製品名は、各社の商標または登録商標で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制作・著作：マイクロソフト株式会社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メイリオ"/>
                <a:ea typeface="メイリオ"/>
              </a:rPr>
              <a:t>無断使用・複製・転載を禁止します。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FC02C-D75B-4059-9227-2AF826085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5T05:04:51Z</dcterms:created>
  <dc:creator>マイクロソフト株式会社</dc:creator>
  <dc:description/>
  <dc:language>en-US</dc:language>
  <cp:lastModifiedBy>KN01</cp:lastModifiedBy>
  <dcterms:modified xsi:type="dcterms:W3CDTF">2009-11-19T00:34:07Z</dcterms:modified>
  <cp:revision>216</cp:revision>
  <dc:subject/>
  <dc:title>会議運営マニュアル</dc:title>
</cp:coreProperties>
</file>