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3FC-C3D4-4D49-A2DB-69EF3519DB5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452520" y="217440"/>
            <a:ext cx="5904000" cy="4429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3C1F-DCCA-4BD9-A652-E948D260A0E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715-328F-44F9-BA29-F174BF42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C22-31A0-4121-B8D0-4F983393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1EA-DC11-4299-AAC1-04288F65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B98-4C36-4B67-A728-F46C342B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DA79-085C-4DFB-8DE3-A479C746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AE7-B751-49CC-A75C-FD89DC0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D3EA-3D93-40AF-8100-7EFF2595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078E-7CAA-43DC-8D9F-13F2000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BDB-22BE-4A9E-BF31-33F79CA3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9214-DADD-4B4A-94A3-7C9F3571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4980-0E67-416E-9AF4-0CA270B6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233-02D3-4886-AE96-BF17F11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278-31AC-4F4D-82E4-5080300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E9E1-2503-4B19-8E20-EDA02D4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AFC4-BB15-41E4-8604-26494D4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B761-91AF-4A8D-840D-E521FF4E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3A97-180E-4111-B62E-8E9E8BFF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F6B-BBCF-4B74-888D-3ECC8F2C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FF4-284C-4731-B86A-A937FFF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B3C-348C-459E-AEBF-6E27245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94E-63FB-431A-ACEE-DC03E642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5B2-76DC-4C7D-90BF-451CFCA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435-0BA8-4CF8-A64F-2244238A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920-FE6C-4660-B989-96D5186F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BF76-0E45-4414-8275-B514558507BF}" type="datetime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87C6-EBA6-4A8A-BC80-19FE9A96385A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1A9E-DB26-4C4D-A917-7DE29EE23E0B}" type="datetime">
              <a:rPr b="0" lang="ja-JP" sz="1200" spc="-1" strike="noStrike">
                <a:solidFill>
                  <a:srgbClr val="575f6d"/>
                </a:solidFill>
                <a:latin typeface="Century Schoolbook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9368-C02A-4790-BB65-29A094AE589C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直線コネクタ 14"/>
          <p:cNvSpPr/>
          <p:nvPr/>
        </p:nvSpPr>
        <p:spPr>
          <a:xfrm flipV="1">
            <a:off x="0" y="620640"/>
            <a:ext cx="83883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7591" t="13007" r="9282" b="8522"/>
          <a:stretch/>
        </p:blipFill>
        <p:spPr>
          <a:xfrm>
            <a:off x="622440" y="907920"/>
            <a:ext cx="7873920" cy="579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3840" y="264960"/>
            <a:ext cx="203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［会議運営シート（企画）］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操作解説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"/>
          <p:cNvSpPr/>
          <p:nvPr/>
        </p:nvSpPr>
        <p:spPr>
          <a:xfrm>
            <a:off x="2127240" y="76320"/>
            <a:ext cx="462600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挿入＞図＞ファイル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説明書き段落間の「・・・・・・・・・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破線上部は新しく設定する場合の説明、破線下部は現状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のものを修正する場合の説明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2654280"/>
            <a:ext cx="271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図形描画ツールバー→テキストボックスをクリック→画面上の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・・・・・・・・・・・・・・・・・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べて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スライド番号プレースホルダ 2"/>
          <p:cNvSpPr/>
          <p:nvPr/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FE1-18EE-442D-A474-16B6EEF8C758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5:04:51Z</dcterms:created>
  <dc:creator>マイクロソフト株式会社</dc:creator>
  <dc:description/>
  <dc:language>en-US</dc:language>
  <cp:lastModifiedBy>KN01</cp:lastModifiedBy>
  <dcterms:modified xsi:type="dcterms:W3CDTF">2009-11-19T00:34:16Z</dcterms:modified>
  <cp:revision>204</cp:revision>
  <dc:subject/>
  <dc:title>スライド 1</dc:title>
</cp:coreProperties>
</file>