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EC2B-4398-461E-9BB0-095815BE4EA0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452520" y="217440"/>
            <a:ext cx="5904000" cy="4429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0760" y="491184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スライド番号プレースホルダ 3"/>
          <p:cNvSpPr/>
          <p:nvPr/>
        </p:nvSpPr>
        <p:spPr>
          <a:xfrm>
            <a:off x="3330720" y="92408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010F-3528-4423-B2AE-CAD7CC30F941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1BE-CB61-4965-8CF4-942DB055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E81-7D95-4C0B-A704-99C9A870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CEE-7BBF-4DEE-9DFF-97DCB3E8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86F-416B-4425-8FC9-4775E205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12F3-EC7D-400A-A10E-CE2702ED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030C-2933-4679-B392-58305B19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0D5E-7435-439B-AB97-31119D35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020E-6902-4B19-A67B-105BB69B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5F1C-F2A4-4A5D-8540-A29E3859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6560" y="17280"/>
            <a:ext cx="801828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29B7-2ACD-4BE7-9031-EC30B58A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9681-074B-4EC3-87C1-2BA27E72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D5E-B40F-489D-8A54-2CD07F90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533E-AC08-4BE0-AF05-51C458CE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F3BC-9AF7-48F6-82BE-D3148B9D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EBC8-EC52-4B52-AF2F-21B1B097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29EA-B36D-45F7-A390-2DBD239E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FC68-C83F-4178-A866-C3128A9B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9BB-1AE5-46B2-B2B1-A3F8B5A3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889-4480-44D6-AABC-12293DB4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A68-9344-48D4-900A-03E78F5E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6560" y="17280"/>
            <a:ext cx="801828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0A2-9AE1-4F36-8318-36C64BEC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E15-2A8A-4C1C-A423-D6F771A1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C64-B171-4047-A2B4-2E4186B9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C07-2D5A-427F-B385-E66EDE5A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  <a:effectLst>
            <a:outerShdw dist="107932" dir="2700000" blurRad="0" rotWithShape="0">
              <a:srgbClr val="99cc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7F84-461F-4539-9E61-CCB577648787}" type="datetime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6/07/31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E38A-CB7F-46C8-8E5E-7C1CFD47E376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直線コネクタ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HGP創英角ｺﾞｼｯｸUB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288A-B49B-4D40-907C-3C4CDCD42847}" type="datetime">
              <a:rPr b="0" lang="ja-JP" sz="1200" spc="-1" strike="noStrike">
                <a:solidFill>
                  <a:srgbClr val="575f6d"/>
                </a:solidFill>
                <a:latin typeface="Century Schoolbook"/>
              </a:rPr>
              <a:t>26/07/31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直線コネクタ 6"/>
          <p:cNvSpPr/>
          <p:nvPr/>
        </p:nvSpPr>
        <p:spPr>
          <a:xfrm>
            <a:off x="142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直線コネクタ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正方形/長方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直線コネクタ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円/楕円 11"/>
          <p:cNvSpPr/>
          <p:nvPr/>
        </p:nvSpPr>
        <p:spPr>
          <a:xfrm>
            <a:off x="8489880" y="621504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462880" y="623412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6C0A-B819-47FD-B33E-D5994C6DC820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直線コネクタ 14"/>
          <p:cNvSpPr/>
          <p:nvPr/>
        </p:nvSpPr>
        <p:spPr>
          <a:xfrm flipV="1">
            <a:off x="0" y="620640"/>
            <a:ext cx="8388360" cy="2232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8016" t="12976" r="9725" b="8586"/>
          <a:stretch/>
        </p:blipFill>
        <p:spPr>
          <a:xfrm>
            <a:off x="744480" y="981000"/>
            <a:ext cx="7643880" cy="5681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26920" y="264960"/>
            <a:ext cx="239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［会議運営シート（キックオフ）］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操作解説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"/>
          <p:cNvSpPr/>
          <p:nvPr/>
        </p:nvSpPr>
        <p:spPr>
          <a:xfrm>
            <a:off x="3078000" y="76320"/>
            <a:ext cx="462600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挿入＞図＞ファイルから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「＞」記号は、メニュー名をたどることを示す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ダブルクリック→ワードアート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説明書き段落間の「・・・・・・・・・」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破線上部は新しく設定する場合の説明、破線下部は現状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 のものを修正する場合の説明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付きの説明書き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"/>
          <p:cNvSpPr/>
          <p:nvPr/>
        </p:nvSpPr>
        <p:spPr>
          <a:xfrm>
            <a:off x="216000" y="2762280"/>
            <a:ext cx="2711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図形描画ツールバー→テキストボックスをクリック→画面上の任意の場所をクリックして文字入力開始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・・・・・・・・・・・・・・・・・・・・・・・・・・・・・・・・・・・・・・・・・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すべてテキスト上をクリックしてカーソルがたったら、文字を打ち変える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スライド番号プレースホルダ 2"/>
          <p:cNvSpPr/>
          <p:nvPr/>
        </p:nvSpPr>
        <p:spPr>
          <a:xfrm>
            <a:off x="8462880" y="62341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8929-2090-4901-8464-4707F9168B8D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54000" y="4365720"/>
            <a:ext cx="723600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05:04:51Z</dcterms:created>
  <dc:creator>マイクロソフト株式会社</dc:creator>
  <dc:description/>
  <dc:language>en-US</dc:language>
  <cp:lastModifiedBy>KN01</cp:lastModifiedBy>
  <dcterms:modified xsi:type="dcterms:W3CDTF">2009-11-19T00:34:25Z</dcterms:modified>
  <cp:revision>204</cp:revision>
  <dc:subject/>
  <dc:title>スライド 1</dc:title>
</cp:coreProperties>
</file>