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95C2-123D-441E-AC50-09E39411F90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714240" y="200160"/>
            <a:ext cx="5434200" cy="407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518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スライド番号プレースホルダ 3"/>
          <p:cNvSpPr/>
          <p:nvPr/>
        </p:nvSpPr>
        <p:spPr>
          <a:xfrm>
            <a:off x="3355920" y="85010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93E1-0E76-4CAD-AB3C-B2835BC3AF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C807-D3A9-47AA-8681-65EFCCFF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70C-D205-4D80-9061-A1D5A5F6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5D59-E8BB-4DE1-8486-6FBC41C6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614D-6287-4A31-91D3-7485479E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5906-69B8-4DBA-AB16-B12909AA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AD2B-07CD-4567-B1B6-659E6A7A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36AC-7C8B-4A12-BACC-975126E0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3CE9-EF87-443B-A90D-DF1ADB54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5428-446C-40D8-A227-0389B860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96560" y="17280"/>
            <a:ext cx="801828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1811-30E6-48DA-B6E0-CCBEAA2B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D8FA-343E-4980-9927-C956604A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4F2D-7215-4B9D-941B-9F30D786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E988-AD42-4EE6-A309-5F2CD3AF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7BF8-85DE-4643-AE9E-FEDCC5E0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88DB-1FC4-4420-A583-80172621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7E1B-3608-4743-931B-1FDBBC48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71B1-2C91-4F38-999E-DD374B8E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B46-81E3-4634-A4F4-4259261F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7B9-54DD-4862-8481-A283FCA7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20D-1ECD-4646-99A0-FE0FBAE0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6560" y="17280"/>
            <a:ext cx="801828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5E40-08FA-457F-B63C-DEEF9B51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9B9B-2FE2-4AC7-BF02-5811C084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BF6-32B2-4B21-86D1-C575A8EB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F1A-C1D1-4FBA-BC4B-12EBC7CD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  <a:effectLst>
            <a:outerShdw dist="107932" dir="2700000" blurRad="0" rotWithShape="0">
              <a:srgbClr val="99cc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4F67-2C76-431E-A547-272B2A9B3E03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線コネクタ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HGP創英角ｺﾞｼｯｸUB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575f6d"/>
                </a:solidFill>
                <a:latin typeface="Century Schoolbook"/>
                <a:ea typeface="ＭＳ Ｐ明朝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575f6d"/>
                </a:solidFill>
                <a:latin typeface="Century Schoolbook"/>
                <a:ea typeface="ＭＳ Ｐ明朝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線コネクタ 6"/>
          <p:cNvSpPr/>
          <p:nvPr/>
        </p:nvSpPr>
        <p:spPr>
          <a:xfrm>
            <a:off x="142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線コネクタ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正方形/長方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線コネクタ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円/楕円 11"/>
          <p:cNvSpPr/>
          <p:nvPr/>
        </p:nvSpPr>
        <p:spPr>
          <a:xfrm>
            <a:off x="8489880" y="621504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62880" y="623412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ffffff"/>
                </a:solidFill>
                <a:latin typeface="Century Schoolbook"/>
                <a:ea typeface="ＭＳ Ｐ明朝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AB9E-A394-4151-85CB-029D4A77869B}" type="slidenum">
              <a:rPr b="1" lang="ja-JP" sz="1400" spc="-1" strike="noStrike">
                <a:solidFill>
                  <a:srgbClr val="ffffff"/>
                </a:solidFill>
                <a:latin typeface="Century Schoolbook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線コネクタ 14"/>
          <p:cNvSpPr/>
          <p:nvPr/>
        </p:nvSpPr>
        <p:spPr>
          <a:xfrm flipV="1">
            <a:off x="0" y="620640"/>
            <a:ext cx="8388360" cy="2232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25636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  <a:effectLst>
            <a:outerShdw dist="107932" dir="2700000" blurRad="0" rotWithShape="0">
              <a:srgbClr val="99cc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J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議運営シート　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［記入例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1197000"/>
            <a:ext cx="5256360" cy="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80172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テーマ：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メイリオ"/>
              </a:rPr>
              <a:t>ブース制作を期日までに完了する方法を考え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700280"/>
            <a:ext cx="2160720" cy="186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会議実施の背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状況報告会議で各作業の進捗を確認した際、担当者が多忙のため、ブース制作の作業が全く進んでいないことが発覚した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1700280"/>
            <a:ext cx="2016360" cy="186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現状の問題点、課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ブースの準備が進んでおらず、期日までに制作できそうにな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77080" y="1700280"/>
            <a:ext cx="2087640" cy="186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あるべき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○月○日までに、ブース制作を完了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3280" y="1700280"/>
            <a:ext cx="2089440" cy="186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具体的な対策、解決の方向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・作業分担を見直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・制作の方法を変え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2160000" y="2411280"/>
            <a:ext cx="503280" cy="14436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320720" y="2411280"/>
            <a:ext cx="503280" cy="14436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rot="16200000">
            <a:off x="6552000" y="2411280"/>
            <a:ext cx="503280" cy="14436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3708360"/>
            <a:ext cx="2160720" cy="216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 marL="808200" indent="-80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今後の大まかなスケジュー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○／○まで　制作業者選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○／○まで　電源使用の確認、手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○／○まで　パネル納品完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○／○まで　最終確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3708360"/>
            <a:ext cx="259236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相談済、アドバイスをもらったこ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○○社は短納期でパネルを制作してくれる（○○課からの情報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4859280"/>
            <a:ext cx="259236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未確認事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上記○○社の制作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37280" y="3708360"/>
            <a:ext cx="3727440" cy="216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合意を得ること／共有するこ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・新たな役割分担で、明日から作業にとりかか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437080" y="3563640"/>
            <a:ext cx="503280" cy="14436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0" y="3564000"/>
            <a:ext cx="503280" cy="14436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6012000"/>
            <a:ext cx="878544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合意を得た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・Ａさん　○○社の制作料確認、Ｂさんに報告（○／○まで）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・Ｂさん　全体の予算の確認、制作業者選定、発注（○／○まで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・Ｃさん　電源使用の確認、手配（○／○まで）、納品物の確認（○／○まで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5437080" y="5868720"/>
            <a:ext cx="503280" cy="14436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62560" y="106200"/>
            <a:ext cx="1008360" cy="34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9480" y="144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開始時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62560" y="504720"/>
            <a:ext cx="2808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10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企業合同説明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19040" y="511200"/>
            <a:ext cx="48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PJ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0280" y="890640"/>
            <a:ext cx="8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PJ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リーダー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62920" y="106200"/>
            <a:ext cx="1008000" cy="34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54520" y="144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終了時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62560" y="879480"/>
            <a:ext cx="2808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10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企業合同説明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345400">
            <a:off x="1834920" y="2635920"/>
            <a:ext cx="56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08080"/>
                </a:solidFill>
                <a:latin typeface="Arial Black"/>
              </a:rPr>
              <a:t>ＳＡＭＰＬ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1480" y="12492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参加者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1268280"/>
            <a:ext cx="8064720" cy="25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1600200"/>
            <a:ext cx="914400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25636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  <a:effectLst>
            <a:outerShdw dist="107932" dir="2700000" blurRad="0" rotWithShape="0">
              <a:srgbClr val="99cc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J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議運営シー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＜状況改善用＞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Arial"/>
              </a:rPr>
              <a:t>時間目安：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45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Arial"/>
              </a:rPr>
              <a:t>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1197000"/>
            <a:ext cx="5256360" cy="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80172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テーマ： ※テーマを具体的に記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709640"/>
            <a:ext cx="2160720" cy="186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会議実施の背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担当者が事前に記入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1709640"/>
            <a:ext cx="2016360" cy="186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現状の問題点、課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担当者が事前に記入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77080" y="1709640"/>
            <a:ext cx="2087640" cy="186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あるべき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担当者が事前に記入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3280" y="1709640"/>
            <a:ext cx="2089440" cy="186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具体的な対策、解決の方向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わかっている場合は記入します。もしくは会議で解決策を出し合い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2160000" y="2411280"/>
            <a:ext cx="503280" cy="14436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4320720" y="2411280"/>
            <a:ext cx="503280" cy="14436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rot="16200000">
            <a:off x="6552000" y="2411280"/>
            <a:ext cx="503280" cy="14436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3708360"/>
            <a:ext cx="2160720" cy="216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今後の大まかなスケジュー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打合せのスケジュール、方向性を決定する日などを記入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3708360"/>
            <a:ext cx="259236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相談済、アドバイスをもらったこ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事前にいただいたアドバイスなどがあれば記入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4859280"/>
            <a:ext cx="259236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未確認事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確認が必要だが、まだ確認できていないことなどがあれば記入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3708360"/>
            <a:ext cx="3727440" cy="216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合意を得ること／共有するこ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担当者が事前に記入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0800000">
            <a:off x="5651280" y="3563640"/>
            <a:ext cx="502920" cy="14436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0" y="3564000"/>
            <a:ext cx="503280" cy="14436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6012000"/>
            <a:ext cx="878544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合意を得た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会議後に記入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5651280" y="5868720"/>
            <a:ext cx="502920" cy="14436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62560" y="106200"/>
            <a:ext cx="1008360" cy="34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49480" y="144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開始時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62560" y="504720"/>
            <a:ext cx="2808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10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19040" y="511200"/>
            <a:ext cx="48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PJ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0280" y="890640"/>
            <a:ext cx="8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PJ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リーダー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62920" y="106200"/>
            <a:ext cx="1008000" cy="34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4520" y="144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終了時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62560" y="879480"/>
            <a:ext cx="2808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10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1480" y="12492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参加者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268280"/>
            <a:ext cx="8064720" cy="25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360" y="1600200"/>
            <a:ext cx="914400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25636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  <a:effectLst>
            <a:outerShdw dist="107932" dir="2700000" blurRad="0" rotWithShape="0">
              <a:srgbClr val="99cc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J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議運営シー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＜状況改善用＞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Arial"/>
              </a:rPr>
              <a:t>時間目安：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45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Arial"/>
              </a:rPr>
              <a:t>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197000"/>
            <a:ext cx="5256360" cy="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80172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テーマ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1700280"/>
            <a:ext cx="2160720" cy="186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会議実施の背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1700280"/>
            <a:ext cx="2016360" cy="186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現状の問題点、課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1700280"/>
            <a:ext cx="2087640" cy="186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あるべき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3280" y="1700280"/>
            <a:ext cx="2089440" cy="186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具体的な対策、解決の方向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2160000" y="2411280"/>
            <a:ext cx="503280" cy="14436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4320720" y="2411280"/>
            <a:ext cx="503280" cy="14436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rot="16200000">
            <a:off x="6552000" y="2411280"/>
            <a:ext cx="503280" cy="14436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3708360"/>
            <a:ext cx="2160720" cy="216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今後の大まかなスケジュー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3708360"/>
            <a:ext cx="259236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相談済、アドバイスをもらったこ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4859280"/>
            <a:ext cx="259236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未確認事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37280" y="3708360"/>
            <a:ext cx="3727440" cy="216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合意を得ること／共有するこ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0800000">
            <a:off x="5651280" y="3563640"/>
            <a:ext cx="502920" cy="14436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0" y="3564000"/>
            <a:ext cx="503280" cy="14436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6012000"/>
            <a:ext cx="878544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Arial"/>
                <a:ea typeface="HGP創英角ｺﾞｼｯｸUB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合意を得た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0800000">
            <a:off x="5651280" y="5868720"/>
            <a:ext cx="502920" cy="14436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62560" y="106200"/>
            <a:ext cx="1008360" cy="34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49480" y="144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開始時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62560" y="504720"/>
            <a:ext cx="2808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10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19040" y="511200"/>
            <a:ext cx="48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PJ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0280" y="890640"/>
            <a:ext cx="8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PJ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リーダー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62920" y="106200"/>
            <a:ext cx="1008000" cy="34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54520" y="144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終了時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62560" y="879480"/>
            <a:ext cx="2808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10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1480" y="12492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参加者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1268280"/>
            <a:ext cx="8064720" cy="25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10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360" y="1600200"/>
            <a:ext cx="914400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スライド番号プレースホルダ 2"/>
          <p:cNvSpPr/>
          <p:nvPr/>
        </p:nvSpPr>
        <p:spPr>
          <a:xfrm>
            <a:off x="8462880" y="62341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979E-6B55-4813-A0BA-2CDCC5D58BCB}" type="slidenum">
              <a:rPr b="1" lang="ja-JP" sz="1400" spc="-1" strike="noStrike">
                <a:solidFill>
                  <a:srgbClr val="ffffff"/>
                </a:solidFill>
                <a:latin typeface="Century Schoolbook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954000" y="4365720"/>
            <a:ext cx="723600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Internet Explorer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Vista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は、米国 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Corporation 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よび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その関連会社の商標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その他、記載されている会社名および製品名は、各社の商標または登録商標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制作・著作：マイクロソフト株式会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無断使用・複製・転載を禁止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1:36:57Z</dcterms:created>
  <dc:creator>マイクロソフト株式会社</dc:creator>
  <dc:description/>
  <dc:language>en-US</dc:language>
  <cp:lastModifiedBy>KN01</cp:lastModifiedBy>
  <dcterms:modified xsi:type="dcterms:W3CDTF">2009-11-19T00:34:57Z</dcterms:modified>
  <cp:revision>35</cp:revision>
  <dc:subject/>
  <dc:title>PJ会議運営シート　［記入例］</dc:title>
</cp:coreProperties>
</file>