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9394-D4D7-4028-B2A4-6FCDFDF851AD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452520" y="217440"/>
            <a:ext cx="5904000" cy="4429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0760" y="491184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スライド番号プレースホルダ 3"/>
          <p:cNvSpPr/>
          <p:nvPr/>
        </p:nvSpPr>
        <p:spPr>
          <a:xfrm>
            <a:off x="3330720" y="92408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3801-8A5B-42C6-94F1-0F8DC9B2A85C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A01-4C0C-4FA1-8721-218747DA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D19-53F0-4F6A-A112-B7214769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0DF-68B7-4B31-B00E-37E273D2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481-D865-43DC-9C6E-6514A562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1890-A80D-41EE-BE63-5CFAAB84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6CE8-C272-4EF0-8C94-9EDDE8F1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03C2-146B-4A86-B330-65221DD1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FB18-CE8E-4F7D-9B63-47192218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6286-7DB9-4410-94C8-F6E8D77A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6560" y="17280"/>
            <a:ext cx="801828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2AE5-A748-41E4-9535-920D230A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76EC-931D-407D-850F-4F4A8520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700A-393F-4A38-9920-C65E5094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6BCA-6E56-471A-9CA6-BF4DCC4B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8772-3EEC-468F-B6EE-FA06FBBD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B2CB-622B-493C-BBAD-D2AD60B7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A8D9-171E-43A2-933C-40065E8E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62E1-87EC-4D64-ABAA-09EABBCD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C4A-2592-4996-94C1-66ABEC1B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CD8-360D-43F0-96C0-AEE0F5C4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DF8-6752-4C25-A15C-8BECB1F6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6560" y="17280"/>
            <a:ext cx="801828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997-20B0-46CE-89BA-AE72ABAD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370-9759-47BB-9358-F80E2565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A4EF-DCC1-4305-98B0-D815B76E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E8F-BE8B-4928-94B6-8D7D13D3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964720" cy="490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  <a:effectLst>
            <a:outerShdw dist="107932" dir="2700000" blurRad="0" rotWithShape="0">
              <a:srgbClr val="99cc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EEE6-D89F-4160-8F99-2BCECB034EB3}" type="datetime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6/07/28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CAF9-4A09-4018-AB6E-39F4E9831241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直線コネクタ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HGP創英角ｺﾞｼｯｸUB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BBEC-30CE-4EEA-A8D5-8B3861F7E9BD}" type="datetime">
              <a:rPr b="0" lang="ja-JP" sz="1200" spc="-1" strike="noStrike">
                <a:solidFill>
                  <a:srgbClr val="575f6d"/>
                </a:solidFill>
                <a:latin typeface="Century Schoolbook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直線コネクタ 6"/>
          <p:cNvSpPr/>
          <p:nvPr/>
        </p:nvSpPr>
        <p:spPr>
          <a:xfrm>
            <a:off x="142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直線コネクタ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正方形/長方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直線コネクタ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円/楕円 11"/>
          <p:cNvSpPr/>
          <p:nvPr/>
        </p:nvSpPr>
        <p:spPr>
          <a:xfrm>
            <a:off x="8489880" y="621504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462880" y="623412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534B-684C-42BA-9CB1-E4156C7B6991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直線コネクタ 14"/>
          <p:cNvSpPr/>
          <p:nvPr/>
        </p:nvSpPr>
        <p:spPr>
          <a:xfrm flipV="1">
            <a:off x="0" y="620640"/>
            <a:ext cx="8388360" cy="2232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7588" t="13003" r="9318" b="8015"/>
          <a:stretch/>
        </p:blipFill>
        <p:spPr>
          <a:xfrm>
            <a:off x="625320" y="919080"/>
            <a:ext cx="7967880" cy="5904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92000" y="264960"/>
            <a:ext cx="217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［会議運営シート（状況改善）］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操作解説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"/>
          <p:cNvSpPr/>
          <p:nvPr/>
        </p:nvSpPr>
        <p:spPr>
          <a:xfrm>
            <a:off x="3024360" y="76320"/>
            <a:ext cx="462564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挿入＞図＞ファイルから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「＞」記号は、メニュー名をたどることを示す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ダブルクリック→ワードアート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説明書き段落間の「・・・・・・・・・」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破線上部は新しく設定する場合の説明、破線下部は現状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 のものを修正する場合の説明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付きの説明書き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"/>
          <p:cNvSpPr/>
          <p:nvPr/>
        </p:nvSpPr>
        <p:spPr>
          <a:xfrm>
            <a:off x="216000" y="2852640"/>
            <a:ext cx="2711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図形描画ツールバー→テキストボックスをクリック→画面上の任意の場所をクリックして文字入力開始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・・・・・・・・・・・・・・・・・・・・・・・・・・・・・・・・・・・・・・・・・・・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すべてテキスト上をクリックしてカーソルがたったら、文字を打ち変える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スライド番号プレースホルダ 2"/>
          <p:cNvSpPr/>
          <p:nvPr/>
        </p:nvSpPr>
        <p:spPr>
          <a:xfrm>
            <a:off x="8462880" y="62341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C643-D527-4392-9641-B9A0D0638142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54000" y="4365720"/>
            <a:ext cx="723600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05:04:51Z</dcterms:created>
  <dc:creator>マイクロソフト株式会社</dc:creator>
  <dc:description/>
  <dc:language>en-US</dc:language>
  <cp:lastModifiedBy>KN01</cp:lastModifiedBy>
  <dcterms:modified xsi:type="dcterms:W3CDTF">2009-11-19T00:35:02Z</dcterms:modified>
  <cp:revision>204</cp:revision>
  <dc:subject/>
  <dc:title>スライド 1</dc:title>
</cp:coreProperties>
</file>