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17120" y="746280"/>
            <a:ext cx="538164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2335E502-C5B0-48E8-8686-C075F5A1BB3E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06280" y="217440"/>
            <a:ext cx="6396120" cy="4429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BED-BC4C-446A-AC7A-90B5353713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073-AF5E-486E-9588-2728F44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3F3-A3D7-4709-A1FB-B4535E2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426-F4A5-460B-A538-03B56803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494-CDA6-4897-8E2B-BDD950E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CDD-F7CE-4DBF-B660-C1300EE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87D-F682-4F1D-803D-0E24F0D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007-F962-4992-95FA-5D6A6D07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E6D-2CBF-430D-974D-2FDAF69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61E-7031-4667-96CE-6CA77D6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779-541A-489F-A2B5-77923483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E7D-1549-4492-B58E-9154E33D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2DE-E627-48F3-82C9-95D8775E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直線コネクタ 15"/>
          <p:cNvSpPr/>
          <p:nvPr/>
        </p:nvSpPr>
        <p:spPr>
          <a:xfrm>
            <a:off x="949320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 rot="5400000">
            <a:off x="8304840" y="1065240"/>
            <a:ext cx="201132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  <a:ea typeface="ＭＳ Ｐ明朝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 rot="5400000">
            <a:off x="7705800" y="3721320"/>
            <a:ext cx="3200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線コネクタ 6"/>
          <p:cNvSpPr/>
          <p:nvPr/>
        </p:nvSpPr>
        <p:spPr>
          <a:xfrm>
            <a:off x="1555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コネクタ 8"/>
          <p:cNvSpPr/>
          <p:nvPr/>
        </p:nvSpPr>
        <p:spPr>
          <a:xfrm>
            <a:off x="974088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9575640" y="0"/>
            <a:ext cx="33048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コネクタ 10"/>
          <p:cNvSpPr/>
          <p:nvPr/>
        </p:nvSpPr>
        <p:spPr>
          <a:xfrm>
            <a:off x="965844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円/楕円 11"/>
          <p:cNvSpPr/>
          <p:nvPr/>
        </p:nvSpPr>
        <p:spPr>
          <a:xfrm>
            <a:off x="9198000" y="6215040"/>
            <a:ext cx="59544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916740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6E5-14BC-4BA1-93D3-47D8CB4DD00F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14"/>
          <p:cNvSpPr/>
          <p:nvPr/>
        </p:nvSpPr>
        <p:spPr>
          <a:xfrm flipV="1">
            <a:off x="0" y="620640"/>
            <a:ext cx="90867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68840" y="314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b3b3ff"/>
                </a:solidFill>
                <a:latin typeface="Arial"/>
                <a:ea typeface="HGP創英角ｺﾞｼｯｸUB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準備物チェックシート」ご利用の前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640" y="801720"/>
            <a:ext cx="23706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）本シートに記載している準備物は、例として挙げているもの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準備物はイベント内容によって変わりますので、改編して利用されることをお勧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２）チェック項目は具体的にするのがポイント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「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黒色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ホワイトボードマーカ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２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」など、誰が見ても同じ準備ができるよう、色、種類、数などを記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３）チェックシートはプリントして使用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938320"/>
            <a:ext cx="68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b3b3ff"/>
                </a:solidFill>
                <a:latin typeface="Arial"/>
                <a:ea typeface="HGP創英角ｺﾞｼｯｸUB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準備物チェックシート」の応用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1880" y="3392640"/>
            <a:ext cx="505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チェックシートは項目を変えるだけで、その他準備の確認事項や、リハーサル用に改編して利用することも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また、内容を“役割ごとに実行すること”にすれば、行動を振り返るマニュアルとしても活用で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05" t="27021" r="11684" b="1541"/>
          <a:stretch/>
        </p:blipFill>
        <p:spPr>
          <a:xfrm>
            <a:off x="446040" y="4129200"/>
            <a:ext cx="4911840" cy="2332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96760" y="1494000"/>
            <a:ext cx="8590320" cy="46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1120" y="184320"/>
            <a:ext cx="30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準備物チェックシート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5160" y="4616280"/>
            <a:ext cx="1103040" cy="93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05280" y="1371600"/>
            <a:ext cx="3003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印のところにマウスポインタを持っていき、ダブルクリックしてカーソルがたったら文字を打ち変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44120" y="1240920"/>
            <a:ext cx="668520" cy="126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40160" y="1593720"/>
            <a:ext cx="438120" cy="44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200" y="824040"/>
            <a:ext cx="417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図を貼り付けて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の幅などを変更した場合は、この図形を適切な位置までドラッグ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03960" y="5665680"/>
            <a:ext cx="36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クリックし、内容を書き換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一部分のみ変更したい場合は、その文字の位置にマウスポインタを持っていき、ダブルクリックしてカーソルがたったら文字を打ち変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56320" y="1154160"/>
            <a:ext cx="2078280" cy="609480"/>
          </a:xfrm>
          <a:prstGeom prst="wedgeRectCallout">
            <a:avLst>
              <a:gd name="adj1" fmla="val -40601"/>
              <a:gd name="adj2" fmla="val 10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チェックを実施した人の名前を記入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6280" y="3602160"/>
            <a:ext cx="1414440" cy="795240"/>
          </a:xfrm>
          <a:prstGeom prst="wedgeRectCallout">
            <a:avLst>
              <a:gd name="adj1" fmla="val 37768"/>
              <a:gd name="adj2" fmla="val -1478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プリントした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ここにチェックを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入れ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6251400"/>
            <a:ext cx="3627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内で文字を折り返すときは、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キーを押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スライド番号プレースホルダ 2"/>
          <p:cNvSpPr/>
          <p:nvPr/>
        </p:nvSpPr>
        <p:spPr>
          <a:xfrm>
            <a:off x="916776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A4D-C668-45AA-B221-D3B0C06D1CEA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68280" y="4365720"/>
            <a:ext cx="73692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38:58Z</dcterms:modified>
  <cp:revision>239</cp:revision>
  <dc:subject/>
  <dc:title>スライド 1</dc:title>
</cp:coreProperties>
</file>