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lstStyle>
            <a:lvl1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717120" y="746280"/>
            <a:ext cx="5381640" cy="372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0760" y="4722840"/>
            <a:ext cx="5443560" cy="447048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lstStyle>
            <a:lvl1pPr indent="0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6"/>
          </p:nvPr>
        </p:nvSpPr>
        <p:spPr>
          <a:xfrm>
            <a:off x="38541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106560" rIns="106560" tIns="53280" bIns="53280" anchor="b">
            <a:noAutofit/>
          </a:bodyPr>
          <a:lstStyle>
            <a:lvl1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fld id="{423DD046-70FF-400A-893A-0CC2C2F6CD14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06280" y="217440"/>
            <a:ext cx="6396120" cy="44290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0760" y="491184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スライド番号プレースホルダ 3"/>
          <p:cNvSpPr/>
          <p:nvPr/>
        </p:nvSpPr>
        <p:spPr>
          <a:xfrm>
            <a:off x="3330720" y="92408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0202-1B9C-4759-87D1-EBEE5B9C6C8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064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6592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39ED-AADF-4E06-8C4A-22311474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A44-070C-4437-899D-6610B5D1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8AA-43C5-40B8-A0A7-BEDEE483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1EFD-17B2-4869-9ED2-4CF4489A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3204-68F9-4C80-AD0D-2A826722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2760" y="17280"/>
            <a:ext cx="86868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925-96C7-4A5D-B5C6-042A7225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BACE-E7AC-4616-8B31-07D0E11F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0D53-1194-4849-9816-AC8DDA1A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C426-6FA7-4EE5-BA0E-8DC85D9C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3914-3CD4-48DA-972B-85F0017C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877-5DA5-4C95-994A-441F3436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064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5920" y="160020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064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5920" y="4146120"/>
            <a:ext cx="260460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0BDF-659B-4547-A85F-459B68C4B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212760" y="17280"/>
            <a:ext cx="86868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40760" y="414612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0760" y="1600200"/>
            <a:ext cx="394776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4146120"/>
            <a:ext cx="8089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直線コネクタ 15"/>
          <p:cNvSpPr/>
          <p:nvPr/>
        </p:nvSpPr>
        <p:spPr>
          <a:xfrm>
            <a:off x="949320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2760" y="17280"/>
            <a:ext cx="86868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HGP創英角ｺﾞｼｯｸUB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089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 rot="5400000">
            <a:off x="8304840" y="1065240"/>
            <a:ext cx="2011320" cy="4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  <a:ea typeface="ＭＳ Ｐ明朝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  <a:ea typeface="ＭＳ Ｐ明朝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 rot="5400000">
            <a:off x="7705800" y="3721320"/>
            <a:ext cx="32004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線コネクタ 6"/>
          <p:cNvSpPr/>
          <p:nvPr/>
        </p:nvSpPr>
        <p:spPr>
          <a:xfrm>
            <a:off x="1555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線コネクタ 8"/>
          <p:cNvSpPr/>
          <p:nvPr/>
        </p:nvSpPr>
        <p:spPr>
          <a:xfrm>
            <a:off x="974088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方形/長方形 9"/>
          <p:cNvSpPr/>
          <p:nvPr/>
        </p:nvSpPr>
        <p:spPr>
          <a:xfrm>
            <a:off x="9575640" y="0"/>
            <a:ext cx="33048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直線コネクタ 10"/>
          <p:cNvSpPr/>
          <p:nvPr/>
        </p:nvSpPr>
        <p:spPr>
          <a:xfrm>
            <a:off x="965844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円/楕円 11"/>
          <p:cNvSpPr/>
          <p:nvPr/>
        </p:nvSpPr>
        <p:spPr>
          <a:xfrm>
            <a:off x="9198000" y="6215040"/>
            <a:ext cx="59544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9167400" y="6234120"/>
            <a:ext cx="660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  <a:ea typeface="ＭＳ Ｐ明朝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BCF5-1701-47BD-82B5-85855A9D0094}" type="slidenum">
              <a:rPr b="1" lang="en-US" sz="1400" spc="-1" strike="noStrike">
                <a:solidFill>
                  <a:srgbClr val="ffffff"/>
                </a:solidFill>
                <a:latin typeface="Century Schoolbook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線コネクタ 14"/>
          <p:cNvSpPr/>
          <p:nvPr/>
        </p:nvSpPr>
        <p:spPr>
          <a:xfrm flipV="1">
            <a:off x="0" y="620640"/>
            <a:ext cx="9086760" cy="2232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082960" y="314280"/>
            <a:ext cx="102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HGP創英角ｺﾞｼｯｸUB"/>
              </a:rPr>
              <a:t>●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HGP創英角ｺﾞｼｯｸUB"/>
              </a:rPr>
              <a:t>●</a:t>
            </a:r>
            <a:r>
              <a:rPr b="0" lang="en-US" sz="1800" spc="-1" strike="noStrike">
                <a:solidFill>
                  <a:srgbClr val="b3b3ff"/>
                </a:solidFill>
                <a:latin typeface="Arial"/>
                <a:ea typeface="HGP創英角ｺﾞｼｯｸUB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「当日運営チェックシート」ご利用の前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4960" y="801720"/>
            <a:ext cx="911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）本シートに記載している内容は、一般的なイベント運営を基本と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ご利用の際には、イベントの規模、企画内容などに合わせ、改編して利用されることをお勧め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２）詳細は具体的にするのがポイント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「講演者用の水（ペットボトル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１）とコップを演台に置く。」など、見る人によって認識がズレないよう、数や位置などを明記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３）チェックシートはプリントして使用して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４）実施後、各担当者に、わかりづらいところがなかったか、迷ったところがなかったかなどヒアリングし、よりわかりやすいチェックシート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なるよう、改善してい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54040" y="1263600"/>
            <a:ext cx="8764560" cy="4876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41120" y="184320"/>
            <a:ext cx="308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［当日運営チェックシート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670120" y="52560"/>
            <a:ext cx="6321600" cy="580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Arial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挿入＞図＞ファイルか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ダブルクリック→ワードアー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付きの説明書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3720" y="4919760"/>
            <a:ext cx="246240" cy="139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38240" y="806400"/>
            <a:ext cx="30034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セルをダブルクリックし、文字を入力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625760" y="1058400"/>
            <a:ext cx="568080" cy="808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03960" y="5862600"/>
            <a:ext cx="3627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セルをクリックし、内容を書き換え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一部分のみ変更したい場合は、その文字の位置にマウスポインタを持っていき、ダブルクリックしてカーソルがたったら文字を打ち変え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80320" y="750960"/>
            <a:ext cx="2077920" cy="609480"/>
          </a:xfrm>
          <a:prstGeom prst="wedgeRectCallout">
            <a:avLst>
              <a:gd name="adj1" fmla="val -33268"/>
              <a:gd name="adj2" fmla="val 12604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黄色のセルに役割別の責任者の名前を記入し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72280" y="6448320"/>
            <a:ext cx="362736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セル内で文字を折り返すときは、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lt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nter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キーを押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90520" y="2308320"/>
            <a:ext cx="522360" cy="4334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04920" y="2319480"/>
            <a:ext cx="490680" cy="3862080"/>
          </a:xfrm>
          <a:custGeom>
            <a:avLst/>
            <a:gdLst>
              <a:gd name="textAreaLeft" fmla="*/ 23760 w 490680"/>
              <a:gd name="textAreaRight" fmla="*/ 466920 w 490680"/>
              <a:gd name="textAreaTop" fmla="*/ 23760 h 3862080"/>
              <a:gd name="textAreaBottom" fmla="*/ 3838320 h 3862080"/>
            </a:gdLst>
            <a:ahLst/>
            <a:rect l="textAreaLeft" t="textAreaTop" r="textAreaRight" b="textAreaBottom"/>
            <a:pathLst>
              <a:path w="21600" h="169902">
                <a:moveTo>
                  <a:pt x="3600" y="0"/>
                </a:moveTo>
                <a:arcTo wR="3600" hR="3600" stAng="16200000" swAng="-5400000"/>
                <a:lnTo>
                  <a:pt x="0" y="166302"/>
                </a:lnTo>
                <a:arcTo wR="3600" hR="3600" stAng="10800000" swAng="-5400000"/>
                <a:lnTo>
                  <a:pt x="18000" y="16990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751120" y="3765600"/>
            <a:ext cx="2077920" cy="804960"/>
          </a:xfrm>
          <a:prstGeom prst="wedgeRectCallout">
            <a:avLst>
              <a:gd name="adj1" fmla="val -59013"/>
              <a:gd name="adj2" fmla="val -11153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）計算式が設定されているので変更しないようにし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65520" y="4875120"/>
            <a:ext cx="1631880" cy="795600"/>
          </a:xfrm>
          <a:prstGeom prst="wedgeRectCallout">
            <a:avLst>
              <a:gd name="adj1" fmla="val -107393"/>
              <a:gd name="adj2" fmla="val -24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黄色のセルに時間の目安を記入し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520" y="3475080"/>
            <a:ext cx="2077920" cy="804960"/>
          </a:xfrm>
          <a:prstGeom prst="wedgeRectCallout">
            <a:avLst>
              <a:gd name="adj1" fmla="val 9509"/>
              <a:gd name="adj2" fmla="val -13718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注）会場利用可能時間の開始時刻が自動で表示されるので、変更しないようにし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78240" y="739800"/>
            <a:ext cx="2078280" cy="609480"/>
          </a:xfrm>
          <a:prstGeom prst="wedgeRectCallout">
            <a:avLst>
              <a:gd name="adj1" fmla="val -62069"/>
              <a:gd name="adj2" fmla="val 1026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黄色のセルに日付と時間を記入し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8320" y="2340000"/>
            <a:ext cx="3632040" cy="500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31000" y="2543040"/>
            <a:ext cx="29401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（※フィルタをかけたいとき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「責任者」と「担当者名」のセルを指定し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データ＞フィルタ＞オートフィルタ　でフィルタを設定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各セルに表示される▼をクリックし、ドロップダウンリストより、表示させたい名前を選択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スライド番号プレースホルダ 2"/>
          <p:cNvSpPr/>
          <p:nvPr/>
        </p:nvSpPr>
        <p:spPr>
          <a:xfrm>
            <a:off x="9167760" y="6234120"/>
            <a:ext cx="66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1993-B336-49A2-B4B0-00EF1E40204E}" type="slidenum">
              <a:rPr b="1" lang="en-US" sz="1400" spc="-1" strike="noStrike">
                <a:solidFill>
                  <a:srgbClr val="ffffff"/>
                </a:solidFill>
                <a:latin typeface="Century Schoolbook"/>
                <a:ea typeface="ＭＳ Ｐ明朝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268280" y="4365720"/>
            <a:ext cx="736920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25:45Z</dcterms:created>
  <dc:creator>マイクロソフト株式会社</dc:creator>
  <dc:description/>
  <dc:language>en-US</dc:language>
  <cp:lastModifiedBy>KN01</cp:lastModifiedBy>
  <dcterms:modified xsi:type="dcterms:W3CDTF">2009-11-19T00:39:03Z</dcterms:modified>
  <cp:revision>241</cp:revision>
  <dc:subject/>
  <dc:title>スライド 1</dc:title>
</cp:coreProperties>
</file>