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17120" y="746280"/>
            <a:ext cx="538164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541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9E7DC1DD-FFD3-4835-8F09-37EED54CF1E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06280" y="217440"/>
            <a:ext cx="6396120" cy="44290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0760" y="49118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スライド番号プレースホルダ 3"/>
          <p:cNvSpPr/>
          <p:nvPr/>
        </p:nvSpPr>
        <p:spPr>
          <a:xfrm>
            <a:off x="3330720" y="92408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C5E8-6D4D-4D81-B48A-4B401EBBC2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064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592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D9E-8A14-49DB-A7B1-C0E6E152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6D3-D2D5-475A-BB7A-AC7DD439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CD9-6504-48C3-B020-8AB3272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9D0-3DE5-4391-85FA-9F32260F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31A-A1C3-4DD4-B7B4-117E23D5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2760" y="17280"/>
            <a:ext cx="8686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3E1-5B1F-4C93-AA03-842AE1D1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032-453B-4014-BE70-DB411D4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7A0-83F0-41B5-9718-2FD4456E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3DE-298B-4F4E-8C71-F51070F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76D-FCC7-4231-8254-DB391FF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FF6-82FD-4864-8073-588B3055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064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592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056-94C7-4BD3-A602-C2E01030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12760" y="17280"/>
            <a:ext cx="8686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直線コネクタ 15"/>
          <p:cNvSpPr/>
          <p:nvPr/>
        </p:nvSpPr>
        <p:spPr>
          <a:xfrm>
            <a:off x="949320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 rot="5400000">
            <a:off x="8304840" y="1065240"/>
            <a:ext cx="201132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Century Schoolbook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75f6d"/>
                </a:solidFill>
                <a:latin typeface="Century Schoolbook"/>
                <a:ea typeface="ＭＳ Ｐ明朝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 rot="5400000">
            <a:off x="7705800" y="3721320"/>
            <a:ext cx="32004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線コネクタ 6"/>
          <p:cNvSpPr/>
          <p:nvPr/>
        </p:nvSpPr>
        <p:spPr>
          <a:xfrm>
            <a:off x="1555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コネクタ 8"/>
          <p:cNvSpPr/>
          <p:nvPr/>
        </p:nvSpPr>
        <p:spPr>
          <a:xfrm>
            <a:off x="974088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9"/>
          <p:cNvSpPr/>
          <p:nvPr/>
        </p:nvSpPr>
        <p:spPr>
          <a:xfrm>
            <a:off x="9575640" y="0"/>
            <a:ext cx="33048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線コネクタ 10"/>
          <p:cNvSpPr/>
          <p:nvPr/>
        </p:nvSpPr>
        <p:spPr>
          <a:xfrm>
            <a:off x="965844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円/楕円 11"/>
          <p:cNvSpPr/>
          <p:nvPr/>
        </p:nvSpPr>
        <p:spPr>
          <a:xfrm>
            <a:off x="9198000" y="6215040"/>
            <a:ext cx="59544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9167400" y="6234120"/>
            <a:ext cx="66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Century Schoolbook"/>
                <a:ea typeface="ＭＳ Ｐ明朝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8F58-744D-4DEF-AED1-96FE25C10BD9}" type="slidenum">
              <a:rPr b="1" lang="ja-JP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線コネクタ 14"/>
          <p:cNvSpPr/>
          <p:nvPr/>
        </p:nvSpPr>
        <p:spPr>
          <a:xfrm flipV="1">
            <a:off x="0" y="620640"/>
            <a:ext cx="90867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8840" y="1015920"/>
            <a:ext cx="4446360" cy="5484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1120" y="184320"/>
            <a:ext cx="30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イベント運営費用精算シート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38560" y="96840"/>
            <a:ext cx="555948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217600" y="4097160"/>
            <a:ext cx="432000" cy="80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664240" y="1506600"/>
            <a:ext cx="155412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40680" y="1380960"/>
            <a:ext cx="2016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をダブルクリックし、カーソルがたったら、入力しま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2880" y="4917960"/>
            <a:ext cx="3519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行が足りなくなったら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行を指定→右クリック→挿入 を選択し、行を増や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Arial"/>
              </a:rPr>
              <a:t>※</a:t>
            </a:r>
            <a:r>
              <a:rPr b="1" lang="ja-JP" sz="900" spc="-1" strike="noStrike">
                <a:solidFill>
                  <a:srgbClr val="ff0000"/>
                </a:solidFill>
                <a:latin typeface="Arial"/>
              </a:rPr>
              <a:t>行を増やすときの注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Arial"/>
              </a:rPr>
              <a:t>計算式が入っている行を指定して、その上に行を挿入すると、計算式がズレてしまい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Arial"/>
              </a:rPr>
              <a:t>黄色、ピンク色の行以外の行を指定し、挿入するように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720" y="1017720"/>
            <a:ext cx="2078280" cy="804600"/>
          </a:xfrm>
          <a:prstGeom prst="wedgeRectCallout">
            <a:avLst>
              <a:gd name="adj1" fmla="val 79791"/>
              <a:gd name="adj2" fmla="val 346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追加する項目がある場合は、空白の行に記入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8680" y="1932120"/>
            <a:ext cx="871560" cy="258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8680" y="5948280"/>
            <a:ext cx="885600" cy="596880"/>
          </a:xfrm>
          <a:prstGeom prst="roundRect">
            <a:avLst>
              <a:gd name="adj" fmla="val 1010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67760" y="2532240"/>
            <a:ext cx="2077920" cy="804600"/>
          </a:xfrm>
          <a:prstGeom prst="wedgeRectCallout">
            <a:avLst>
              <a:gd name="adj1" fmla="val -64819"/>
              <a:gd name="adj2" fmla="val -10463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）計算式が設定されているので変更しないように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54880" y="5711760"/>
            <a:ext cx="2077920" cy="804960"/>
          </a:xfrm>
          <a:prstGeom prst="wedgeRectCallout">
            <a:avLst>
              <a:gd name="adj1" fmla="val -70625"/>
              <a:gd name="adj2" fmla="val 88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）計算式が設定されているので変更しないように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スライド番号プレースホルダ 2"/>
          <p:cNvSpPr/>
          <p:nvPr/>
        </p:nvSpPr>
        <p:spPr>
          <a:xfrm>
            <a:off x="9167760" y="623412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9186-8444-4627-AB56-EF3B92871D24}" type="slidenum">
              <a:rPr b="1" lang="ja-JP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268280" y="4365720"/>
            <a:ext cx="73692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KN01</cp:lastModifiedBy>
  <dcterms:modified xsi:type="dcterms:W3CDTF">2009-11-19T00:39:07Z</dcterms:modified>
  <cp:revision>241</cp:revision>
  <dc:subject/>
  <dc:title>スライド 1</dc:title>
</cp:coreProperties>
</file>