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DA3-7A54-4DA5-83A2-6734D15B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8B8-2868-4DC5-8C40-5E9EEA94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AA7-2364-4C0F-882F-C9BD5E31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243-441C-4D2A-ABEA-6B0181F8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E80-8E24-4814-B595-473AC73D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8BB-44A8-4890-9BF7-52493E43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70F-E578-4EFE-879B-4DDB9C56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455-4515-43DD-B702-705985EF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064-F146-4AD4-BCEF-D072D8A0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1B4-8765-429E-9223-7CA7312B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97D-9F9E-4322-89A2-D2112374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983-32E4-4F98-B87F-97ECE88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6048-D3A5-4AA1-8D0F-A04B348C34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23840" y="264960"/>
            <a:ext cx="31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［プレゼンテーション情報整理シート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546360" y="76320"/>
            <a:ext cx="5346720" cy="945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画像から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＞」記号は、リボン上のタブ、コマンド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ダブルクリック→ワードアート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説明書き段落間の「・・・・・・・」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破線上部は新しく設定する場合の説明、破線下部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は現状のものを修正する場合の説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付きの説明書き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195120" y="2278080"/>
            <a:ext cx="435636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テキストボックス→横書き（縦書き）テキストボックス→→画面上の任意の場所をクリックして文字入力開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テキスト上をクリックしてカーソルがたったら、文字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グループ化 7"/>
          <p:cNvGrpSpPr/>
          <p:nvPr/>
        </p:nvGrpSpPr>
        <p:grpSpPr>
          <a:xfrm>
            <a:off x="309600" y="1689120"/>
            <a:ext cx="1612800" cy="588960"/>
            <a:chOff x="309600" y="1689120"/>
            <a:chExt cx="1612800" cy="588960"/>
          </a:xfrm>
        </p:grpSpPr>
        <p:pic>
          <p:nvPicPr>
            <p:cNvPr id="46" name="図 8" descr=""/>
            <p:cNvPicPr/>
            <p:nvPr/>
          </p:nvPicPr>
          <p:blipFill>
            <a:blip r:embed="rId2"/>
            <a:stretch/>
          </p:blipFill>
          <p:spPr>
            <a:xfrm>
              <a:off x="339120" y="1695960"/>
              <a:ext cx="75564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図 9" descr=""/>
            <p:cNvPicPr/>
            <p:nvPr/>
          </p:nvPicPr>
          <p:blipFill>
            <a:blip r:embed="rId3"/>
            <a:stretch/>
          </p:blipFill>
          <p:spPr>
            <a:xfrm>
              <a:off x="1234440" y="1689120"/>
              <a:ext cx="687960" cy="5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正方形/長方形 10"/>
            <p:cNvSpPr/>
            <p:nvPr/>
          </p:nvSpPr>
          <p:spPr>
            <a:xfrm>
              <a:off x="309600" y="1695240"/>
              <a:ext cx="1600200" cy="5770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1"/>
            <p:cNvSpPr/>
            <p:nvPr/>
          </p:nvSpPr>
          <p:spPr>
            <a:xfrm>
              <a:off x="900720" y="1959840"/>
              <a:ext cx="423000" cy="18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ff0000"/>
                  </a:solidFill>
                  <a:latin typeface="メイリオ"/>
                  <a:ea typeface="メイリオ"/>
                </a:rPr>
                <a:t>途中略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5"/>
          <p:cNvSpPr/>
          <p:nvPr/>
        </p:nvSpPr>
        <p:spPr>
          <a:xfrm>
            <a:off x="122400" y="4822920"/>
            <a:ext cx="286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作成する行・列をドラッグする（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8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行</a:t>
            </a:r>
            <a:r>
              <a:rPr b="0" lang="en-US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×11</a:t>
            </a: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列以内）。または、作成する行・列を数値で指定す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、クイック表作成から選択す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139680" y="3463920"/>
            <a:ext cx="13651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挿入＞表から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22400" y="5356080"/>
            <a:ext cx="25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・・・・・・・・・・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メイリオ"/>
                <a:ea typeface="メイリオ"/>
              </a:rPr>
              <a:t>各セルのテキストを打ち変え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3" descr=""/>
          <p:cNvPicPr/>
          <p:nvPr/>
        </p:nvPicPr>
        <p:blipFill>
          <a:blip r:embed="rId4"/>
          <a:stretch/>
        </p:blipFill>
        <p:spPr>
          <a:xfrm>
            <a:off x="1035000" y="3679920"/>
            <a:ext cx="824040" cy="1063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4" name="図 4" descr=""/>
          <p:cNvPicPr/>
          <p:nvPr/>
        </p:nvPicPr>
        <p:blipFill>
          <a:blip r:embed="rId5"/>
          <a:stretch/>
        </p:blipFill>
        <p:spPr>
          <a:xfrm>
            <a:off x="155520" y="3676680"/>
            <a:ext cx="812880" cy="1047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5" name="図 5" descr=""/>
          <p:cNvPicPr/>
          <p:nvPr/>
        </p:nvPicPr>
        <p:blipFill>
          <a:blip r:embed="rId6"/>
          <a:stretch/>
        </p:blipFill>
        <p:spPr>
          <a:xfrm>
            <a:off x="1577880" y="4008600"/>
            <a:ext cx="879480" cy="60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954000" y="4365720"/>
            <a:ext cx="723600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0:47:33Z</dcterms:created>
  <dc:creator>Oda Junko</dc:creator>
  <dc:description/>
  <dc:language>en-US</dc:language>
  <cp:lastModifiedBy>Hidekazu Sakurai</cp:lastModifiedBy>
  <dcterms:modified xsi:type="dcterms:W3CDTF">2014-07-10T03:10:59Z</dcterms:modified>
  <cp:revision>38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</Properties>
</file>