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21E8-AC27-41D9-A6DF-6C919422D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A95A-AC03-40CA-AA9A-7229F527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1329-8AD1-4035-AC04-25D83C269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C317-0EB7-4B93-8E1A-7D6D0281C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0858-21AA-40E3-A516-7EDBDE19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B41D-6A3F-4B36-8729-8E4CF759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AF15-C597-4138-9767-9B453DDC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E825-8315-4BB3-9A6C-A68D6DB5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7102-058D-4BCF-9FAC-F04A2B4D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FA29-B335-4514-AC32-1D47037B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7C92-B0A9-45CA-BE47-57856092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A802-3446-4F8C-8EEE-B827A45A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C7CF-0281-4364-8823-8B06D992E5F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79280" y="115920"/>
            <a:ext cx="4892760" cy="4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  <a:effectLst>
            <a:outerShdw dist="107932" dir="2700000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プレゼンテーション直前チェックシ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5840" y="1143000"/>
          <a:ext cx="3500280" cy="5397480"/>
        </p:xfrm>
        <a:graphic>
          <a:graphicData uri="http://schemas.openxmlformats.org/drawingml/2006/table">
            <a:tbl>
              <a:tblPr/>
              <a:tblGrid>
                <a:gridCol w="285840"/>
                <a:gridCol w="2571480"/>
                <a:gridCol w="642960"/>
              </a:tblGrid>
              <a:tr h="408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チェック項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OK</a:t>
                      </a:r>
                      <a:br>
                        <a:rPr sz="1000"/>
                      </a:b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※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○印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49896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77933c"/>
                          </a:solidFill>
                          <a:latin typeface="Arial Black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プレゼンテーションの目的に合ったシナリオになっていますか？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93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77933c"/>
                          </a:solidFill>
                          <a:latin typeface="Arial Black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聞き手はどのような人か（立場、期待、ニーズなど）把握していますか？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896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77933c"/>
                          </a:solidFill>
                          <a:latin typeface="Arial Black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プレゼンテーションの会場、入り時間、持ち時間は把握していますか？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896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77933c"/>
                          </a:solidFill>
                          <a:latin typeface="Arial Black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準備する資料（スライド、配布の有無、印刷など）について把握していますか？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896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77933c"/>
                          </a:solidFill>
                          <a:latin typeface="Arial Black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資料の準備はできていますか？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896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77933c"/>
                          </a:solidFill>
                          <a:latin typeface="Arial Black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図解やグラフ、画像なども使ったわかりやすい資料になっていますか？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896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77933c"/>
                          </a:solidFill>
                          <a:latin typeface="Arial Black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資料の誤字脱字は確認・修正しましたか？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896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77933c"/>
                          </a:solidFill>
                          <a:latin typeface="Arial Black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テーマごとの時間配分を考えていますか？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896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77933c"/>
                          </a:solidFill>
                          <a:latin typeface="Arial Black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時間配分が狂ったときの対策は考えていますか？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82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77933c"/>
                          </a:solidFill>
                          <a:latin typeface="Arial Black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会場の環境（機材、部屋の広さなど）は確認しましたか？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3" name="正方形/長方形 24"/>
          <p:cNvSpPr/>
          <p:nvPr/>
        </p:nvSpPr>
        <p:spPr>
          <a:xfrm>
            <a:off x="5214960" y="142920"/>
            <a:ext cx="378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 indent="-87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このシートは印刷して使用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正方形/長方形 26"/>
          <p:cNvSpPr/>
          <p:nvPr/>
        </p:nvSpPr>
        <p:spPr>
          <a:xfrm>
            <a:off x="214200" y="857160"/>
            <a:ext cx="400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cc00"/>
                </a:solidFill>
                <a:latin typeface="Arial"/>
                <a:ea typeface="HGP創英角ｺﾞｼｯｸUB"/>
              </a:rPr>
              <a:t>●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プレゼンテーション準備（プレゼンター用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929040" y="1143000"/>
          <a:ext cx="5072040" cy="5411880"/>
        </p:xfrm>
        <a:graphic>
          <a:graphicData uri="http://schemas.openxmlformats.org/drawingml/2006/table">
            <a:tbl>
              <a:tblPr/>
              <a:tblGrid>
                <a:gridCol w="317520"/>
                <a:gridCol w="2540160"/>
                <a:gridCol w="642960"/>
                <a:gridCol w="1571400"/>
              </a:tblGrid>
              <a:tr h="4111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チェック項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OK</a:t>
                      </a:r>
                      <a:br>
                        <a:rPr sz="1000"/>
                      </a:b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※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○印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改善ポイン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500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77933c"/>
                          </a:solidFill>
                          <a:latin typeface="Arial Black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伝えたいポイントは明確ですか？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例）ポイントをもう少し絞ると良い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77933c"/>
                          </a:solidFill>
                          <a:latin typeface="Arial Black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例えや具体例を使った、わかりやすい説明になっていますか？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77933c"/>
                          </a:solidFill>
                          <a:latin typeface="Arial Black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熱意は伝わりますか？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77933c"/>
                          </a:solidFill>
                          <a:latin typeface="Arial Black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話す速度や間、声の大きさは適切ですか？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77933c"/>
                          </a:solidFill>
                          <a:latin typeface="Arial Black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背筋を伸ばし、正しい姿勢で話すことができていますか？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77933c"/>
                          </a:solidFill>
                          <a:latin typeface="Arial Black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聞き手の目を見ながら話していますか？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40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77933c"/>
                          </a:solidFill>
                          <a:latin typeface="Arial Black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身振り手振りを交えて、わかりやすく説明していますか？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77933c"/>
                          </a:solidFill>
                          <a:latin typeface="Arial Black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専門用語は別の用語に置き換えるか、用語の説明をしていますか？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77933c"/>
                          </a:solidFill>
                          <a:latin typeface="Arial Black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山場と感じるポイント（盛り上がるところ）はありますか？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77933c"/>
                          </a:solidFill>
                          <a:latin typeface="Arial Black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時間配分は適切ですか？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6" name="正方形/長方形 31"/>
          <p:cNvSpPr/>
          <p:nvPr/>
        </p:nvSpPr>
        <p:spPr>
          <a:xfrm>
            <a:off x="3857760" y="857160"/>
            <a:ext cx="40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cc00"/>
                </a:solidFill>
                <a:latin typeface="Arial"/>
                <a:ea typeface="HGP創英角ｺﾞｼｯｸUB"/>
              </a:rPr>
              <a:t>●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プレゼンテーション実践トレーニング（聞き手用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7"/>
          <p:cNvSpPr/>
          <p:nvPr/>
        </p:nvSpPr>
        <p:spPr>
          <a:xfrm>
            <a:off x="5214960" y="357120"/>
            <a:ext cx="378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 indent="-87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左表はプレゼンターが自分でチェックします。右表は、他のメンバーに聞き手の視点でチェックしてもらうためのもので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954000" y="4365720"/>
            <a:ext cx="7236000" cy="158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ロゴ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Internet Explorer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 Vista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ロゴは、米国 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 Corporation 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および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/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またはその関連会社の商標で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その他、記載されている会社名および製品名は、各社の商標または登録商標で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制作・著作：マイクロソフト株式会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無断使用・複製・転載を禁止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00:47:33Z</dcterms:created>
  <dc:creator>Oda Junko</dc:creator>
  <dc:description/>
  <dc:language>en-US</dc:language>
  <cp:lastModifiedBy>Oda Junko</cp:lastModifiedBy>
  <dcterms:modified xsi:type="dcterms:W3CDTF">2010-03-15T07:58:54Z</dcterms:modified>
  <cp:revision>21</cp:revision>
  <dc:subject/>
  <dc:title>スライド 1</dc:title>
</cp:coreProperties>
</file>