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41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258D1C76-E2D3-4713-8A1B-1E4BE56B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スライド番号プレースホルダ 3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AC0950DD-9418-45A6-822D-94498309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スライド番号プレースホルダ 3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0B434F26-3620-4CBE-97F3-B7F9A8D37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0" y="355680"/>
            <a:ext cx="23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［プレスリリース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27240" y="76320"/>
            <a:ext cx="4626000" cy="70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＞」記号は、リボン上のタブ、コマンド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書き段落間の「・・・・・・・」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破線上部は新しく設定する場合の説明、破線下部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現状のものを修正する場合の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905040" y="2127240"/>
            <a:ext cx="5047920" cy="71517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6" name="Text Box 8"/>
          <p:cNvSpPr/>
          <p:nvPr/>
        </p:nvSpPr>
        <p:spPr>
          <a:xfrm>
            <a:off x="314280" y="4341960"/>
            <a:ext cx="2276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中をクリックしてカーソルがたった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 flipH="1" flipV="1">
            <a:off x="955800" y="4695480"/>
            <a:ext cx="403200" cy="514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H="1">
            <a:off x="802800" y="3699000"/>
            <a:ext cx="606600" cy="565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737240" y="5548320"/>
            <a:ext cx="212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写真、イラストを指定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4165560" y="5451480"/>
            <a:ext cx="587520" cy="29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4659480" y="1373040"/>
            <a:ext cx="20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団体ロゴのファイルを指定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4537080" y="1825200"/>
            <a:ext cx="403200" cy="514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3905280" y="8921880"/>
            <a:ext cx="29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作成する行・列をドラッグする（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行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×11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列以内）。または、作成する行・列を数値で指定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、クイック表作成から選択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3255840" y="6792840"/>
            <a:ext cx="648000" cy="150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3976560" y="7313760"/>
            <a:ext cx="1746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表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976560" y="9396360"/>
            <a:ext cx="272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各セルのテキスト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24" descr=""/>
          <p:cNvPicPr/>
          <p:nvPr/>
        </p:nvPicPr>
        <p:blipFill>
          <a:blip r:embed="rId2"/>
          <a:stretch/>
        </p:blipFill>
        <p:spPr>
          <a:xfrm>
            <a:off x="3294000" y="1146240"/>
            <a:ext cx="1365480" cy="560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8" name="図 25" descr=""/>
          <p:cNvPicPr/>
          <p:nvPr/>
        </p:nvPicPr>
        <p:blipFill>
          <a:blip r:embed="rId3"/>
          <a:stretch/>
        </p:blipFill>
        <p:spPr>
          <a:xfrm>
            <a:off x="4870440" y="5900760"/>
            <a:ext cx="1265400" cy="533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9" name="図 8" descr=""/>
          <p:cNvPicPr/>
          <p:nvPr/>
        </p:nvPicPr>
        <p:blipFill>
          <a:blip r:embed="rId4"/>
          <a:stretch/>
        </p:blipFill>
        <p:spPr>
          <a:xfrm>
            <a:off x="4059360" y="7513560"/>
            <a:ext cx="849240" cy="130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0" name="図 9" descr=""/>
          <p:cNvPicPr/>
          <p:nvPr/>
        </p:nvPicPr>
        <p:blipFill>
          <a:blip r:embed="rId5"/>
          <a:stretch/>
        </p:blipFill>
        <p:spPr>
          <a:xfrm>
            <a:off x="4992840" y="7513560"/>
            <a:ext cx="857160" cy="1312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1" name="図 1" descr=""/>
          <p:cNvPicPr/>
          <p:nvPr/>
        </p:nvPicPr>
        <p:blipFill>
          <a:blip r:embed="rId6"/>
          <a:stretch/>
        </p:blipFill>
        <p:spPr>
          <a:xfrm>
            <a:off x="5437080" y="8115480"/>
            <a:ext cx="746280" cy="784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2" name="図 10" descr=""/>
          <p:cNvPicPr/>
          <p:nvPr/>
        </p:nvPicPr>
        <p:blipFill>
          <a:blip r:embed="rId7"/>
          <a:stretch/>
        </p:blipFill>
        <p:spPr>
          <a:xfrm>
            <a:off x="4030560" y="6595920"/>
            <a:ext cx="1471680" cy="717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68200" y="7734240"/>
            <a:ext cx="6310440" cy="145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Hidekazu Sakurai</cp:lastModifiedBy>
  <dcterms:modified xsi:type="dcterms:W3CDTF">2014-07-10T03:11:59Z</dcterms:modified>
  <cp:revision>23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</Properties>
</file>