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65BD9492-CD39-4DFD-8ACA-E7CECF49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33877424-362A-4BB3-BFFA-01F348DC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E1DB1766-9E09-4B96-A2F7-DB489EE47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2706DDA5-142B-4C8A-BDC3-1C03158FC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4607" t="3744" r="4749" b="5781"/>
          <a:stretch/>
        </p:blipFill>
        <p:spPr>
          <a:xfrm>
            <a:off x="1103400" y="2556000"/>
            <a:ext cx="4740120" cy="66243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0" y="264960"/>
            <a:ext cx="22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ニュースレター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－第一面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27240" y="7632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リボン上のタブ、コマンド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 flipV="1">
            <a:off x="1549080" y="2592360"/>
            <a:ext cx="228600" cy="331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882880" y="979560"/>
            <a:ext cx="38340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形＞四角形→正方形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長方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枠上をダブルクリック→書式＞図形の塗りつぶし、図形の枠線で編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H="1" flipV="1">
            <a:off x="3049200" y="1790280"/>
            <a:ext cx="29196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477040" y="2998800"/>
            <a:ext cx="138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オンライン画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画像を検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5140440" y="2725200"/>
            <a:ext cx="212760" cy="4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V="1">
            <a:off x="4191120" y="2217240"/>
            <a:ext cx="38880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943520" y="1547640"/>
            <a:ext cx="18050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テキストボックス→横書き（縦書き）テキストボック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63520" y="5078520"/>
            <a:ext cx="23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 flipV="1">
            <a:off x="905040" y="5432040"/>
            <a:ext cx="403200" cy="51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011480" y="6129360"/>
            <a:ext cx="64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 flipV="1">
            <a:off x="4095720" y="4489200"/>
            <a:ext cx="39708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"/>
          <p:cNvSpPr/>
          <p:nvPr/>
        </p:nvSpPr>
        <p:spPr>
          <a:xfrm flipH="1" flipV="1">
            <a:off x="955440" y="7553160"/>
            <a:ext cx="479160" cy="42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1711440" y="9275760"/>
            <a:ext cx="230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3126960" y="8950320"/>
            <a:ext cx="49212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440240" y="9451800"/>
            <a:ext cx="210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ページ区切り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ページ区切りを挿入して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469880" y="2158920"/>
            <a:ext cx="20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団体ロゴのファイルを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83080" y="3890880"/>
            <a:ext cx="15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、イラスト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68920" y="6377040"/>
            <a:ext cx="20890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形＞四角形→正方形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長方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98360" y="7174080"/>
            <a:ext cx="15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、イラスト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図 9" descr=""/>
          <p:cNvPicPr/>
          <p:nvPr/>
        </p:nvPicPr>
        <p:blipFill>
          <a:blip r:embed="rId2"/>
          <a:stretch/>
        </p:blipFill>
        <p:spPr>
          <a:xfrm>
            <a:off x="1647720" y="950760"/>
            <a:ext cx="1265400" cy="535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6" name="図 11" descr=""/>
          <p:cNvPicPr/>
          <p:nvPr/>
        </p:nvPicPr>
        <p:blipFill>
          <a:blip r:embed="rId3"/>
          <a:stretch/>
        </p:blipFill>
        <p:spPr>
          <a:xfrm>
            <a:off x="158760" y="1508040"/>
            <a:ext cx="2763720" cy="54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67" name="グループ化 18"/>
          <p:cNvGrpSpPr/>
          <p:nvPr/>
        </p:nvGrpSpPr>
        <p:grpSpPr>
          <a:xfrm>
            <a:off x="3403440" y="1568520"/>
            <a:ext cx="1613160" cy="588960"/>
            <a:chOff x="3403440" y="1568520"/>
            <a:chExt cx="1613160" cy="588960"/>
          </a:xfrm>
        </p:grpSpPr>
        <p:pic>
          <p:nvPicPr>
            <p:cNvPr id="68" name="図 12" descr=""/>
            <p:cNvPicPr/>
            <p:nvPr/>
          </p:nvPicPr>
          <p:blipFill>
            <a:blip r:embed="rId4"/>
            <a:stretch/>
          </p:blipFill>
          <p:spPr>
            <a:xfrm>
              <a:off x="3432960" y="1575360"/>
              <a:ext cx="75564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図 42" descr=""/>
            <p:cNvPicPr/>
            <p:nvPr/>
          </p:nvPicPr>
          <p:blipFill>
            <a:blip r:embed="rId5"/>
            <a:stretch/>
          </p:blipFill>
          <p:spPr>
            <a:xfrm>
              <a:off x="4328640" y="1568520"/>
              <a:ext cx="68796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正方形/長方形 13"/>
            <p:cNvSpPr/>
            <p:nvPr/>
          </p:nvSpPr>
          <p:spPr>
            <a:xfrm>
              <a:off x="3403440" y="1574640"/>
              <a:ext cx="1600560" cy="577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3994920" y="1839240"/>
              <a:ext cx="42300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途中略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図 14" descr=""/>
          <p:cNvPicPr/>
          <p:nvPr/>
        </p:nvPicPr>
        <p:blipFill>
          <a:blip r:embed="rId6"/>
          <a:stretch/>
        </p:blipFill>
        <p:spPr>
          <a:xfrm>
            <a:off x="152280" y="2098800"/>
            <a:ext cx="1363680" cy="560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3" name="図 15" descr=""/>
          <p:cNvPicPr/>
          <p:nvPr/>
        </p:nvPicPr>
        <p:blipFill>
          <a:blip r:embed="rId7"/>
          <a:stretch/>
        </p:blipFill>
        <p:spPr>
          <a:xfrm>
            <a:off x="5448240" y="2413080"/>
            <a:ext cx="1306440" cy="56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4" name="図 47" descr=""/>
          <p:cNvPicPr/>
          <p:nvPr/>
        </p:nvPicPr>
        <p:blipFill>
          <a:blip r:embed="rId8"/>
          <a:stretch/>
        </p:blipFill>
        <p:spPr>
          <a:xfrm>
            <a:off x="4054320" y="3878280"/>
            <a:ext cx="1365480" cy="560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5" name="図 48" descr=""/>
          <p:cNvPicPr/>
          <p:nvPr/>
        </p:nvPicPr>
        <p:blipFill>
          <a:blip r:embed="rId9"/>
          <a:stretch/>
        </p:blipFill>
        <p:spPr>
          <a:xfrm>
            <a:off x="171360" y="6613560"/>
            <a:ext cx="1363680" cy="560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6" name="図 49" descr=""/>
          <p:cNvPicPr/>
          <p:nvPr/>
        </p:nvPicPr>
        <p:blipFill>
          <a:blip r:embed="rId10"/>
          <a:stretch/>
        </p:blipFill>
        <p:spPr>
          <a:xfrm>
            <a:off x="3559320" y="6456240"/>
            <a:ext cx="1265040" cy="534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図 17" descr=""/>
          <p:cNvPicPr/>
          <p:nvPr/>
        </p:nvPicPr>
        <p:blipFill>
          <a:blip r:embed="rId11"/>
          <a:stretch/>
        </p:blipFill>
        <p:spPr>
          <a:xfrm>
            <a:off x="4449600" y="8948880"/>
            <a:ext cx="1027440" cy="488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43000" y="2189160"/>
            <a:ext cx="4572000" cy="66214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79" name="Text Box 5"/>
          <p:cNvSpPr/>
          <p:nvPr/>
        </p:nvSpPr>
        <p:spPr>
          <a:xfrm>
            <a:off x="0" y="264960"/>
            <a:ext cx="23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ニュースレター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－第二面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49840" y="2119320"/>
            <a:ext cx="210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、イラストを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4064040" y="8588520"/>
            <a:ext cx="358560" cy="23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4368960" y="2320560"/>
            <a:ext cx="39672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63520" y="5078520"/>
            <a:ext cx="224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 flipH="1" flipV="1">
            <a:off x="905040" y="5432040"/>
            <a:ext cx="403200" cy="51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 flipH="1">
            <a:off x="739800" y="4702320"/>
            <a:ext cx="504720" cy="31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044800" y="930240"/>
            <a:ext cx="48132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形＞線＞直線→任意の場所をドラッグしてラインを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ライン上をダブルクリック→図形の書式設定（赤丸部分）→線の太さや種類を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 flipV="1">
            <a:off x="3438000" y="1437840"/>
            <a:ext cx="582840" cy="83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154240" y="6984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リボン上のタブ、コマンド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図 1" descr=""/>
          <p:cNvPicPr/>
          <p:nvPr/>
        </p:nvPicPr>
        <p:blipFill>
          <a:blip r:embed="rId2"/>
          <a:stretch/>
        </p:blipFill>
        <p:spPr>
          <a:xfrm>
            <a:off x="430200" y="774720"/>
            <a:ext cx="1628640" cy="56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0" name="図 15" descr=""/>
          <p:cNvPicPr/>
          <p:nvPr/>
        </p:nvPicPr>
        <p:blipFill>
          <a:blip r:embed="rId3"/>
          <a:stretch/>
        </p:blipFill>
        <p:spPr>
          <a:xfrm>
            <a:off x="4765680" y="1509840"/>
            <a:ext cx="1365120" cy="560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1" name="図 2" descr=""/>
          <p:cNvPicPr/>
          <p:nvPr/>
        </p:nvPicPr>
        <p:blipFill>
          <a:blip r:embed="rId4"/>
          <a:stretch/>
        </p:blipFill>
        <p:spPr>
          <a:xfrm>
            <a:off x="431640" y="1444680"/>
            <a:ext cx="2845080" cy="600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2" name="円/楕円 3"/>
          <p:cNvSpPr/>
          <p:nvPr/>
        </p:nvSpPr>
        <p:spPr>
          <a:xfrm>
            <a:off x="1854360" y="1908000"/>
            <a:ext cx="299880" cy="281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1"/>
          <p:cNvSpPr/>
          <p:nvPr/>
        </p:nvSpPr>
        <p:spPr>
          <a:xfrm>
            <a:off x="4716360" y="4729320"/>
            <a:ext cx="214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ページレイアウト＞段組み＞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二段組みの設定をして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図 19" descr=""/>
          <p:cNvPicPr/>
          <p:nvPr/>
        </p:nvPicPr>
        <p:blipFill>
          <a:blip r:embed="rId5"/>
          <a:stretch/>
        </p:blipFill>
        <p:spPr>
          <a:xfrm>
            <a:off x="4765680" y="4202280"/>
            <a:ext cx="1547640" cy="537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5" name="Text Box 9"/>
          <p:cNvSpPr/>
          <p:nvPr/>
        </p:nvSpPr>
        <p:spPr>
          <a:xfrm>
            <a:off x="2886120" y="8856720"/>
            <a:ext cx="383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形＞四角形→正方形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長方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枠上をダブルクリック→書式＞図形の塗りつぶし、図形の枠線で編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図 21" descr=""/>
          <p:cNvPicPr/>
          <p:nvPr/>
        </p:nvPicPr>
        <p:blipFill>
          <a:blip r:embed="rId6"/>
          <a:stretch/>
        </p:blipFill>
        <p:spPr>
          <a:xfrm>
            <a:off x="1662120" y="8758080"/>
            <a:ext cx="1265400" cy="533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図 22" descr=""/>
          <p:cNvPicPr/>
          <p:nvPr/>
        </p:nvPicPr>
        <p:blipFill>
          <a:blip r:embed="rId7"/>
          <a:stretch/>
        </p:blipFill>
        <p:spPr>
          <a:xfrm>
            <a:off x="162000" y="9334440"/>
            <a:ext cx="2763720" cy="539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68200" y="7734240"/>
            <a:ext cx="6310440" cy="145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Hidekazu Sakurai</cp:lastModifiedBy>
  <dcterms:modified xsi:type="dcterms:W3CDTF">2014-07-10T03:12:58Z</dcterms:modified>
  <cp:revision>24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