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41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BA3B550C-797C-4EAB-8927-F9D061EA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4B67A786-BAD6-418A-B80C-375794D6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F0FAB5CA-0206-4EE4-95E0-F374F883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B4817458-CA67-4F8C-8673-356CC6C3F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8830"/>
          <p:cNvSpPr txBox="1"/>
          <p:nvPr/>
        </p:nvSpPr>
        <p:spPr>
          <a:xfrm>
            <a:off x="371520" y="676440"/>
            <a:ext cx="611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HGP創英角ｺﾞｼｯｸUB"/>
              </a:rPr>
              <a:t>イベントタイトル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HGP創英角ｺﾞｼｯｸUB"/>
              <a:ea typeface="HGP創英角ｺﾞｼｯｸUB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1952640"/>
          <a:ext cx="6562800" cy="1573200"/>
        </p:xfrm>
        <a:graphic>
          <a:graphicData uri="http://schemas.openxmlformats.org/drawingml/2006/table">
            <a:tbl>
              <a:tblPr/>
              <a:tblGrid>
                <a:gridCol w="708120"/>
                <a:gridCol w="585468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日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1424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008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年□月□日（□）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71424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開始時刻～終了時刻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（開場 開場時刻～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会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会場名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　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（住所を記載 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対象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対象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Oval 9047"/>
          <p:cNvSpPr/>
          <p:nvPr/>
        </p:nvSpPr>
        <p:spPr>
          <a:xfrm rot="839400">
            <a:off x="5156280" y="1736640"/>
            <a:ext cx="1501560" cy="99216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強調したいこと</a:t>
            </a:r>
            <a:br>
              <a:rPr sz="1600"/>
            </a:br>
            <a:r>
              <a:rPr b="0" lang="ja-JP" sz="10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（参加費や限定○名など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079"/>
          <p:cNvSpPr txBox="1"/>
          <p:nvPr/>
        </p:nvSpPr>
        <p:spPr>
          <a:xfrm>
            <a:off x="200160" y="1504800"/>
            <a:ext cx="2286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HGP創英角ｺﾞｼｯｸUB"/>
              </a:rPr>
              <a:t>キャッチコピー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47" name="Text Box 9108"/>
          <p:cNvSpPr/>
          <p:nvPr/>
        </p:nvSpPr>
        <p:spPr>
          <a:xfrm>
            <a:off x="38160" y="3622680"/>
            <a:ext cx="324648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リード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109"/>
          <p:cNvSpPr/>
          <p:nvPr/>
        </p:nvSpPr>
        <p:spPr>
          <a:xfrm>
            <a:off x="3333600" y="7286760"/>
            <a:ext cx="3410280" cy="246672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主催者、もしくは講師のプロフィールなどを記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111"/>
          <p:cNvSpPr/>
          <p:nvPr/>
        </p:nvSpPr>
        <p:spPr>
          <a:xfrm>
            <a:off x="3472920" y="7056360"/>
            <a:ext cx="80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144"/>
          <p:cNvSpPr/>
          <p:nvPr/>
        </p:nvSpPr>
        <p:spPr>
          <a:xfrm>
            <a:off x="38160" y="4070520"/>
            <a:ext cx="3227400" cy="299700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内容を説明する文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内容を簡潔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読み手に興味を持ってもらえる話題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文字の大きさやフォント、語調などで強弱をつけ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164"/>
          <p:cNvSpPr/>
          <p:nvPr/>
        </p:nvSpPr>
        <p:spPr>
          <a:xfrm>
            <a:off x="3314880" y="3600360"/>
            <a:ext cx="3409920" cy="347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容がイメージできる写真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講師の写真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165"/>
          <p:cNvSpPr/>
          <p:nvPr/>
        </p:nvSpPr>
        <p:spPr>
          <a:xfrm>
            <a:off x="47520" y="7257960"/>
            <a:ext cx="32101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過去の実績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した人の声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152"/>
          <p:cNvSpPr txBox="1"/>
          <p:nvPr/>
        </p:nvSpPr>
        <p:spPr>
          <a:xfrm>
            <a:off x="3868560" y="147600"/>
            <a:ext cx="1705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HGP創英角ｺﾞｼｯｸUB"/>
              </a:rPr>
              <a:t>□□□□□</a:t>
            </a:r>
            <a:r>
              <a:rPr b="0" lang="zh-CN" sz="1400" spc="1" strike="noStrike">
                <a:ln w="0">
                  <a:noFill/>
                </a:ln>
                <a:solidFill>
                  <a:srgbClr val="000000"/>
                </a:solidFill>
                <a:latin typeface="HGP創英角ｺﾞｼｯｸUB"/>
              </a:rPr>
              <a:t>主催</a:t>
            </a:r>
            <a:endParaRPr b="0" lang="en-US" sz="1400" spc="1" strike="noStrike">
              <a:ln w="0">
                <a:noFill/>
              </a:ln>
              <a:solidFill>
                <a:srgbClr val="000000"/>
              </a:solidFill>
              <a:latin typeface="HGP創英角ｺﾞｼｯｸUB"/>
              <a:ea typeface="HGP創英角ｺﾞｼｯｸUB"/>
            </a:endParaRPr>
          </a:p>
        </p:txBody>
      </p:sp>
      <p:sp>
        <p:nvSpPr>
          <p:cNvPr id="54" name="AutoShape 9167"/>
          <p:cNvSpPr/>
          <p:nvPr/>
        </p:nvSpPr>
        <p:spPr>
          <a:xfrm>
            <a:off x="1282680" y="47520"/>
            <a:ext cx="2467080" cy="428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団体ロゴを配置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83"/>
          <p:cNvSpPr/>
          <p:nvPr/>
        </p:nvSpPr>
        <p:spPr>
          <a:xfrm>
            <a:off x="98280" y="3017880"/>
            <a:ext cx="3502080" cy="3083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場周辺の地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0480" y="85680"/>
            <a:ext cx="6738840" cy="2828880"/>
          </a:xfrm>
          <a:prstGeom prst="roundRect">
            <a:avLst>
              <a:gd name="adj" fmla="val 3602"/>
            </a:avLst>
          </a:prstGeom>
          <a:solidFill>
            <a:srgbClr val="ffc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プログラ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□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□）　開始時刻～終了時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3840" y="8352000"/>
          <a:ext cx="6620040" cy="1409400"/>
        </p:xfrm>
        <a:graphic>
          <a:graphicData uri="http://schemas.openxmlformats.org/drawingml/2006/table">
            <a:tbl>
              <a:tblPr/>
              <a:tblGrid>
                <a:gridCol w="336600"/>
                <a:gridCol w="2093760"/>
                <a:gridCol w="2095560"/>
                <a:gridCol w="2094120"/>
              </a:tblGrid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参加者情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氏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所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役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会社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F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-m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住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55"/>
          <p:cNvSpPr/>
          <p:nvPr/>
        </p:nvSpPr>
        <p:spPr>
          <a:xfrm>
            <a:off x="1585440" y="641844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FAX/TEL/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メールアドレスなどを記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6"/>
          <p:cNvSpPr/>
          <p:nvPr/>
        </p:nvSpPr>
        <p:spPr>
          <a:xfrm>
            <a:off x="2400120" y="6076800"/>
            <a:ext cx="20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申込方法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FAX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メールなどを記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7"/>
          <p:cNvSpPr/>
          <p:nvPr/>
        </p:nvSpPr>
        <p:spPr>
          <a:xfrm>
            <a:off x="1562040" y="6188040"/>
            <a:ext cx="324000" cy="228600"/>
          </a:xfrm>
          <a:prstGeom prst="downArrow">
            <a:avLst>
              <a:gd name="adj1" fmla="val 38231"/>
              <a:gd name="adj2" fmla="val 541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8"/>
          <p:cNvSpPr/>
          <p:nvPr/>
        </p:nvSpPr>
        <p:spPr>
          <a:xfrm>
            <a:off x="4981680" y="6188040"/>
            <a:ext cx="323640" cy="228600"/>
          </a:xfrm>
          <a:prstGeom prst="downArrow">
            <a:avLst>
              <a:gd name="adj1" fmla="val 38231"/>
              <a:gd name="adj2" fmla="val 541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4"/>
          <p:cNvSpPr/>
          <p:nvPr/>
        </p:nvSpPr>
        <p:spPr>
          <a:xfrm>
            <a:off x="127080" y="7780320"/>
            <a:ext cx="6616800" cy="46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【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個人情報の利用目的につい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お客さまからご提供いただくお名前、ご住所などの個人情報は、本件のご案内のみに利用いたします。お客さまからご提供いただいた個人情報は、当団体が定める個人情報保護方針に則って、厳重に管理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6"/>
          <p:cNvSpPr/>
          <p:nvPr/>
        </p:nvSpPr>
        <p:spPr>
          <a:xfrm>
            <a:off x="3705120" y="4264200"/>
            <a:ext cx="3038760" cy="1828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▼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お問い合わせ　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主催者名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問い合わせ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問い合わせ先住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問い合わせ用電話番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E-mai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問い合わせ用メールアドレ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担当者：担当者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9"/>
          <p:cNvSpPr/>
          <p:nvPr/>
        </p:nvSpPr>
        <p:spPr>
          <a:xfrm>
            <a:off x="2890080" y="29988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場ＭＡ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0"/>
          <p:cNvSpPr/>
          <p:nvPr/>
        </p:nvSpPr>
        <p:spPr>
          <a:xfrm>
            <a:off x="3689280" y="3017880"/>
            <a:ext cx="3054600" cy="116820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交通アクセ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地下鉄や電車、バスなどの路線、出口、そこから□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2"/>
          <p:cNvSpPr/>
          <p:nvPr/>
        </p:nvSpPr>
        <p:spPr>
          <a:xfrm>
            <a:off x="260280" y="1036800"/>
            <a:ext cx="6340680" cy="1697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152388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イベント内のタイムスケジュールを記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152388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例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開会のあいさつ （□□協会　□□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4"/>
          <p:cNvSpPr/>
          <p:nvPr/>
        </p:nvSpPr>
        <p:spPr>
          <a:xfrm>
            <a:off x="1371600" y="8470800"/>
            <a:ext cx="4448160" cy="11811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追加・削除し、収集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必要な項目を記載して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5"/>
          <p:cNvSpPr/>
          <p:nvPr/>
        </p:nvSpPr>
        <p:spPr>
          <a:xfrm>
            <a:off x="2173680" y="6811920"/>
            <a:ext cx="251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注意事項を記載（受付時間や定員になり次第締め切る場合などはその旨を記載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7"/>
          <p:cNvSpPr/>
          <p:nvPr/>
        </p:nvSpPr>
        <p:spPr>
          <a:xfrm>
            <a:off x="123840" y="7186680"/>
            <a:ext cx="6618240" cy="517320"/>
          </a:xfrm>
          <a:prstGeom prst="rec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◆</a:t>
            </a:r>
            <a:r>
              <a:rPr b="0" lang="ja-JP" sz="1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申込受付完了連絡手段を記載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申込受付完了は、どのような手段で連絡をするのかを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8"/>
          <p:cNvSpPr/>
          <p:nvPr/>
        </p:nvSpPr>
        <p:spPr>
          <a:xfrm>
            <a:off x="5353200" y="4572000"/>
            <a:ext cx="1276200" cy="3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団体ロゴを配置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68200" y="7734240"/>
            <a:ext cx="6310440" cy="145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KN01</cp:lastModifiedBy>
  <dcterms:modified xsi:type="dcterms:W3CDTF">2009-11-19T00:32:25Z</dcterms:modified>
  <cp:revision>190</cp:revision>
  <dc:subject/>
  <dc:title>スライド 1</dc:title>
</cp:coreProperties>
</file>