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907588"/>
  <p:notesSz cx="66452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6456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9640" cy="49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763800" y="-360"/>
            <a:ext cx="2880000" cy="49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2058840" y="733320"/>
            <a:ext cx="2538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64920" y="4645080"/>
            <a:ext cx="5314680" cy="439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9282240"/>
            <a:ext cx="2879640" cy="490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763800" y="9282240"/>
            <a:ext cx="2880000" cy="490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lstStyle>
            <a:lvl1pPr indent="0" algn="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fld id="{A3C0EB9E-2B34-44DC-95E1-D08FB3F7C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763800" y="9282240"/>
            <a:ext cx="288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fld id="{C1CC74FF-C260-404A-888C-F7E5F7166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2058840" y="733320"/>
            <a:ext cx="2538720" cy="36655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64920" y="4645080"/>
            <a:ext cx="531468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058840" y="733320"/>
            <a:ext cx="2538720" cy="36655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64920" y="4645080"/>
            <a:ext cx="531468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スライド番号プレースホルダ 3"/>
          <p:cNvSpPr/>
          <p:nvPr/>
        </p:nvSpPr>
        <p:spPr>
          <a:xfrm>
            <a:off x="3763800" y="9282240"/>
            <a:ext cx="288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fld id="{E46062A6-46A3-4E62-A7D3-FBCD0A9E2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058840" y="733320"/>
            <a:ext cx="2538720" cy="36655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4920" y="4645080"/>
            <a:ext cx="531468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763800" y="9282240"/>
            <a:ext cx="288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fld id="{DBBA0DB1-EFDA-4356-A978-798CF878D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365120" y="2736720"/>
            <a:ext cx="4127760" cy="595152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44" name="Text Box 9171"/>
          <p:cNvSpPr/>
          <p:nvPr/>
        </p:nvSpPr>
        <p:spPr>
          <a:xfrm>
            <a:off x="165240" y="164952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画像から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団体ロゴのファイルを指定す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172"/>
          <p:cNvSpPr/>
          <p:nvPr/>
        </p:nvSpPr>
        <p:spPr>
          <a:xfrm flipH="1" flipV="1">
            <a:off x="1860480" y="1790640"/>
            <a:ext cx="473040" cy="94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173"/>
          <p:cNvSpPr/>
          <p:nvPr/>
        </p:nvSpPr>
        <p:spPr>
          <a:xfrm>
            <a:off x="2398680" y="1860840"/>
            <a:ext cx="241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キスト上をクリックしてカーソルがたったら、文字を打ち変え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174"/>
          <p:cNvSpPr/>
          <p:nvPr/>
        </p:nvSpPr>
        <p:spPr>
          <a:xfrm flipV="1">
            <a:off x="3606840" y="2203560"/>
            <a:ext cx="22320" cy="869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176"/>
          <p:cNvSpPr/>
          <p:nvPr/>
        </p:nvSpPr>
        <p:spPr>
          <a:xfrm flipH="1" flipV="1">
            <a:off x="4143240" y="2184480"/>
            <a:ext cx="657360" cy="552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177"/>
          <p:cNvSpPr/>
          <p:nvPr/>
        </p:nvSpPr>
        <p:spPr>
          <a:xfrm flipV="1">
            <a:off x="2705040" y="2174760"/>
            <a:ext cx="390600" cy="1355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178"/>
          <p:cNvSpPr/>
          <p:nvPr/>
        </p:nvSpPr>
        <p:spPr>
          <a:xfrm>
            <a:off x="17640" y="6437160"/>
            <a:ext cx="1331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作成する行・列をドラッグする（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8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行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×11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列以内）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、作成する行・列を数値で指定す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・・・・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各セルのテキストを打ち変え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179"/>
          <p:cNvSpPr/>
          <p:nvPr/>
        </p:nvSpPr>
        <p:spPr>
          <a:xfrm flipH="1" flipV="1">
            <a:off x="1239840" y="4105440"/>
            <a:ext cx="37296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180"/>
          <p:cNvSpPr/>
          <p:nvPr/>
        </p:nvSpPr>
        <p:spPr>
          <a:xfrm>
            <a:off x="5241960" y="1728720"/>
            <a:ext cx="144468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図形＞星とリボン＞星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24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・・・・・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キスト上をクリックしてカーソルがたったら、文字を打ち変え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181"/>
          <p:cNvSpPr/>
          <p:nvPr/>
        </p:nvSpPr>
        <p:spPr>
          <a:xfrm flipV="1">
            <a:off x="5124600" y="2736720"/>
            <a:ext cx="603000" cy="116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183"/>
          <p:cNvSpPr/>
          <p:nvPr/>
        </p:nvSpPr>
        <p:spPr>
          <a:xfrm flipV="1">
            <a:off x="4280040" y="5090760"/>
            <a:ext cx="509400" cy="560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184"/>
          <p:cNvSpPr/>
          <p:nvPr/>
        </p:nvSpPr>
        <p:spPr>
          <a:xfrm>
            <a:off x="165240" y="88614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テキストボックス＞横書きテキストボック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→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任意の場所をクリックして文字入力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・・・・・・・・・・・・・・・・・・・・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キスト上をクリックしてカーソルがたったら、文字を打ち変え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185"/>
          <p:cNvSpPr/>
          <p:nvPr/>
        </p:nvSpPr>
        <p:spPr>
          <a:xfrm flipH="1">
            <a:off x="1141560" y="6892920"/>
            <a:ext cx="365040" cy="1395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186"/>
          <p:cNvSpPr/>
          <p:nvPr/>
        </p:nvSpPr>
        <p:spPr>
          <a:xfrm flipH="1">
            <a:off x="1476360" y="5070600"/>
            <a:ext cx="1386000" cy="318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187"/>
          <p:cNvSpPr/>
          <p:nvPr/>
        </p:nvSpPr>
        <p:spPr>
          <a:xfrm flipH="1">
            <a:off x="3484440" y="7978680"/>
            <a:ext cx="293760" cy="563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188"/>
          <p:cNvSpPr/>
          <p:nvPr/>
        </p:nvSpPr>
        <p:spPr>
          <a:xfrm flipH="1">
            <a:off x="2973240" y="7889760"/>
            <a:ext cx="144720" cy="389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191"/>
          <p:cNvSpPr/>
          <p:nvPr/>
        </p:nvSpPr>
        <p:spPr>
          <a:xfrm>
            <a:off x="0" y="264960"/>
            <a:ext cx="223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［イベントチラシ］操作解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－</a:t>
            </a:r>
            <a:r>
              <a:rPr b="1" i="1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PowerPoint2013</a:t>
            </a:r>
            <a:r>
              <a:rPr b="1" i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表面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152800" y="114480"/>
            <a:ext cx="4626000" cy="70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記号の意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画像から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「＞」記号は、リボン上のタブ、コマンドをたどること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ダブルクリック→ワードアート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「→」記号は、次のアクション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説明書き段落間の「・・・・・・・」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破線上部は新しく設定する場合の説明、破線下部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は現状のものを修正する場合の説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付きの説明書き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操作のワンポイントアドバイ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図 2" descr=""/>
          <p:cNvPicPr/>
          <p:nvPr/>
        </p:nvPicPr>
        <p:blipFill>
          <a:blip r:embed="rId2"/>
          <a:stretch/>
        </p:blipFill>
        <p:spPr>
          <a:xfrm>
            <a:off x="230040" y="1082520"/>
            <a:ext cx="1654200" cy="563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3" name="図 3" descr=""/>
          <p:cNvPicPr/>
          <p:nvPr/>
        </p:nvPicPr>
        <p:blipFill>
          <a:blip r:embed="rId3"/>
          <a:stretch/>
        </p:blipFill>
        <p:spPr>
          <a:xfrm>
            <a:off x="5072040" y="1139760"/>
            <a:ext cx="1614600" cy="560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64" name="Text Box 9171"/>
          <p:cNvSpPr/>
          <p:nvPr/>
        </p:nvSpPr>
        <p:spPr>
          <a:xfrm>
            <a:off x="4789440" y="525780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画像から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任意の写真やイメージを配置す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図 24" descr=""/>
          <p:cNvPicPr/>
          <p:nvPr/>
        </p:nvPicPr>
        <p:blipFill>
          <a:blip r:embed="rId4"/>
          <a:stretch/>
        </p:blipFill>
        <p:spPr>
          <a:xfrm>
            <a:off x="4854600" y="4691160"/>
            <a:ext cx="1654200" cy="5634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6" name="図 4" descr=""/>
          <p:cNvPicPr/>
          <p:nvPr/>
        </p:nvPicPr>
        <p:blipFill>
          <a:blip r:embed="rId5"/>
          <a:stretch/>
        </p:blipFill>
        <p:spPr>
          <a:xfrm>
            <a:off x="230040" y="8278920"/>
            <a:ext cx="3222720" cy="569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7" name="図 5" descr=""/>
          <p:cNvPicPr/>
          <p:nvPr/>
        </p:nvPicPr>
        <p:blipFill>
          <a:blip r:embed="rId6"/>
          <a:stretch/>
        </p:blipFill>
        <p:spPr>
          <a:xfrm>
            <a:off x="73080" y="3068640"/>
            <a:ext cx="1787400" cy="574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8" name="図 6" descr=""/>
          <p:cNvPicPr/>
          <p:nvPr/>
        </p:nvPicPr>
        <p:blipFill>
          <a:blip r:embed="rId7"/>
          <a:stretch/>
        </p:blipFill>
        <p:spPr>
          <a:xfrm>
            <a:off x="88920" y="3705120"/>
            <a:ext cx="1015920" cy="13114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9" name="図 8" descr=""/>
          <p:cNvPicPr/>
          <p:nvPr/>
        </p:nvPicPr>
        <p:blipFill>
          <a:blip r:embed="rId8"/>
          <a:stretch/>
        </p:blipFill>
        <p:spPr>
          <a:xfrm>
            <a:off x="84240" y="5091120"/>
            <a:ext cx="1015920" cy="1312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0" name="図 7" descr=""/>
          <p:cNvPicPr/>
          <p:nvPr/>
        </p:nvPicPr>
        <p:blipFill>
          <a:blip r:embed="rId9"/>
          <a:stretch/>
        </p:blipFill>
        <p:spPr>
          <a:xfrm>
            <a:off x="484200" y="5351400"/>
            <a:ext cx="865080" cy="596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333440" y="2581200"/>
            <a:ext cx="4129200" cy="596736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72" name="Line 8"/>
          <p:cNvSpPr/>
          <p:nvPr/>
        </p:nvSpPr>
        <p:spPr>
          <a:xfrm flipH="1" flipV="1">
            <a:off x="1142640" y="4876560"/>
            <a:ext cx="71748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 flipV="1">
            <a:off x="5359320" y="5135040"/>
            <a:ext cx="293760" cy="328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503280" y="3227400"/>
            <a:ext cx="2073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※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時間とプログラム名の間などは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TAB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キーをおして、間隔をそろえ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6"/>
          <p:cNvSpPr/>
          <p:nvPr/>
        </p:nvSpPr>
        <p:spPr>
          <a:xfrm flipH="1">
            <a:off x="1142640" y="6545160"/>
            <a:ext cx="584280" cy="1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 flipH="1" flipV="1">
            <a:off x="1143000" y="6840000"/>
            <a:ext cx="81288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9"/>
          <p:cNvSpPr/>
          <p:nvPr/>
        </p:nvSpPr>
        <p:spPr>
          <a:xfrm flipH="1">
            <a:off x="888480" y="8101080"/>
            <a:ext cx="481320" cy="519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0" y="264960"/>
            <a:ext cx="218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［イベントチラシ］操作解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－</a:t>
            </a:r>
            <a:r>
              <a:rPr b="1" i="1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PowerPoint2013</a:t>
            </a:r>
            <a:r>
              <a:rPr b="1" i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表面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2152800" y="114480"/>
            <a:ext cx="4626000" cy="70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記号の意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図＞ファイルから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「＞」記号は、メニュー名をたどること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ダブルクリック→ワードアート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「→」記号は、次のアクション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説明書き段落間の「・・・・・・・」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破線上部は新しく設定する場合の説明、破線下部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は現状のものを修正する場合の説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付きの説明書き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操作のワンポイントアドバイ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184"/>
          <p:cNvSpPr/>
          <p:nvPr/>
        </p:nvSpPr>
        <p:spPr>
          <a:xfrm>
            <a:off x="1619280" y="157176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テキストボックス＞横書きテキストボック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→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任意の場所をクリックして文字入力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・・・・・・・・・・・・・・・・・・・・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キスト上をクリックしてカーソルがたったら、文字を打ち変え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図 20" descr=""/>
          <p:cNvPicPr/>
          <p:nvPr/>
        </p:nvPicPr>
        <p:blipFill>
          <a:blip r:embed="rId2"/>
          <a:stretch/>
        </p:blipFill>
        <p:spPr>
          <a:xfrm>
            <a:off x="1684440" y="988920"/>
            <a:ext cx="3222360" cy="569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82" name="Line 12"/>
          <p:cNvSpPr/>
          <p:nvPr/>
        </p:nvSpPr>
        <p:spPr>
          <a:xfrm flipV="1">
            <a:off x="2832120" y="2254320"/>
            <a:ext cx="49320" cy="46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 flipH="1" flipV="1">
            <a:off x="3913200" y="2307960"/>
            <a:ext cx="455760" cy="2127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171"/>
          <p:cNvSpPr/>
          <p:nvPr/>
        </p:nvSpPr>
        <p:spPr>
          <a:xfrm>
            <a:off x="177840" y="453708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画像から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任意の写真やイメージを配置す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図 22" descr=""/>
          <p:cNvPicPr/>
          <p:nvPr/>
        </p:nvPicPr>
        <p:blipFill>
          <a:blip r:embed="rId3"/>
          <a:stretch/>
        </p:blipFill>
        <p:spPr>
          <a:xfrm>
            <a:off x="243000" y="3970440"/>
            <a:ext cx="1654200" cy="5634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86" name="Text Box 9171"/>
          <p:cNvSpPr/>
          <p:nvPr/>
        </p:nvSpPr>
        <p:spPr>
          <a:xfrm>
            <a:off x="5014800" y="465948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画像から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任意の写真やイメージを配置す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図 24" descr=""/>
          <p:cNvPicPr/>
          <p:nvPr/>
        </p:nvPicPr>
        <p:blipFill>
          <a:blip r:embed="rId4"/>
          <a:stretch/>
        </p:blipFill>
        <p:spPr>
          <a:xfrm>
            <a:off x="5079960" y="4091040"/>
            <a:ext cx="1654200" cy="565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88" name="Text Box 9184"/>
          <p:cNvSpPr/>
          <p:nvPr/>
        </p:nvSpPr>
        <p:spPr>
          <a:xfrm>
            <a:off x="61920" y="6083280"/>
            <a:ext cx="108108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テキストボックス＞横書きテキストボックス→任意の場所をクリックして文字入力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・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キスト上をクリックしてカーソルがたったら、文字を打ち変え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図 28" descr=""/>
          <p:cNvPicPr/>
          <p:nvPr/>
        </p:nvPicPr>
        <p:blipFill>
          <a:blip r:embed="rId5"/>
          <a:stretch/>
        </p:blipFill>
        <p:spPr>
          <a:xfrm>
            <a:off x="61920" y="5492880"/>
            <a:ext cx="3222720" cy="569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90" name="Text Box 9178"/>
          <p:cNvSpPr/>
          <p:nvPr/>
        </p:nvSpPr>
        <p:spPr>
          <a:xfrm>
            <a:off x="4324320" y="874548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作成する行・列をドラッグする（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8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行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×11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列以内）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、作成する行・列を数値で指定す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・・・・・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各セルのテキストを打ち変え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図 30" descr=""/>
          <p:cNvPicPr/>
          <p:nvPr/>
        </p:nvPicPr>
        <p:blipFill>
          <a:blip r:embed="rId6"/>
          <a:stretch/>
        </p:blipFill>
        <p:spPr>
          <a:xfrm>
            <a:off x="109440" y="8620200"/>
            <a:ext cx="1787760" cy="574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2" name="図 31" descr=""/>
          <p:cNvPicPr/>
          <p:nvPr/>
        </p:nvPicPr>
        <p:blipFill>
          <a:blip r:embed="rId7"/>
          <a:stretch/>
        </p:blipFill>
        <p:spPr>
          <a:xfrm>
            <a:off x="1969920" y="8559720"/>
            <a:ext cx="1016280" cy="13114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3" name="図 32" descr=""/>
          <p:cNvPicPr/>
          <p:nvPr/>
        </p:nvPicPr>
        <p:blipFill>
          <a:blip r:embed="rId8"/>
          <a:stretch/>
        </p:blipFill>
        <p:spPr>
          <a:xfrm>
            <a:off x="3060720" y="8548560"/>
            <a:ext cx="1015920" cy="1312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4" name="図 33" descr=""/>
          <p:cNvPicPr/>
          <p:nvPr/>
        </p:nvPicPr>
        <p:blipFill>
          <a:blip r:embed="rId9"/>
          <a:stretch/>
        </p:blipFill>
        <p:spPr>
          <a:xfrm>
            <a:off x="3448080" y="8790120"/>
            <a:ext cx="865080" cy="5950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268200" y="7734240"/>
            <a:ext cx="6310440" cy="1454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Internet Explorer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 Vista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は、米国 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 Corporation 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よび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その関連会社の商標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その他、記載されている会社名および製品名は、各社の商標または登録商標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制作・著作：マイクロソフト株式会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無断使用・複製・転載を禁止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2:25:45Z</dcterms:created>
  <dc:creator>マイクロソフト株式会社</dc:creator>
  <dc:description/>
  <dc:language>en-US</dc:language>
  <cp:lastModifiedBy>Hidekazu Sakurai</cp:lastModifiedBy>
  <dcterms:modified xsi:type="dcterms:W3CDTF">2014-07-10T03:14:12Z</dcterms:modified>
  <cp:revision>233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</Properties>
</file>