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907588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41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lstStyle>
            <a:lvl1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1A6AF746-C544-4E14-B088-B75570CAE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スライド番号プレースホルダ 3"/>
          <p:cNvSpPr/>
          <p:nvPr/>
        </p:nvSpPr>
        <p:spPr>
          <a:xfrm>
            <a:off x="385452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b">
            <a:noAutofit/>
          </a:bodyPr>
          <a:p>
            <a:pPr algn="r"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38C4DE3D-A7A6-4147-8B54-0B01C57EA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スライド番号プレースホルダ 3"/>
          <p:cNvSpPr/>
          <p:nvPr/>
        </p:nvSpPr>
        <p:spPr>
          <a:xfrm>
            <a:off x="385452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b">
            <a:noAutofit/>
          </a:bodyPr>
          <a:p>
            <a:pPr algn="r"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3AE49546-1615-4E9C-9D2D-5B3CC03B3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17880" y="746280"/>
            <a:ext cx="2581200" cy="3727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スライド番号プレースホルダ 3"/>
          <p:cNvSpPr/>
          <p:nvPr/>
        </p:nvSpPr>
        <p:spPr>
          <a:xfrm>
            <a:off x="385452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b">
            <a:noAutofit/>
          </a:bodyPr>
          <a:p>
            <a:pPr algn="r"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578F989D-2222-427F-9336-B499A4900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1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60480" y="264960"/>
            <a:ext cx="203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［報告レポート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－第一面－</a:t>
            </a:r>
            <a:r>
              <a:rPr b="1" i="1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ord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884160" y="1414440"/>
            <a:ext cx="4943520" cy="70786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5" name="Line 10"/>
          <p:cNvSpPr/>
          <p:nvPr/>
        </p:nvSpPr>
        <p:spPr>
          <a:xfrm flipV="1">
            <a:off x="3556080" y="4255560"/>
            <a:ext cx="554040" cy="4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241200" y="1738440"/>
            <a:ext cx="199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中をクリックしてカーソル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たったら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2"/>
          <p:cNvSpPr/>
          <p:nvPr/>
        </p:nvSpPr>
        <p:spPr>
          <a:xfrm flipH="1" flipV="1">
            <a:off x="891720" y="2219400"/>
            <a:ext cx="492120" cy="62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 flipH="1" flipV="1">
            <a:off x="1361880" y="2066400"/>
            <a:ext cx="237960" cy="29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 flipH="1" flipV="1">
            <a:off x="2111400" y="1939680"/>
            <a:ext cx="365040" cy="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386080" y="8331120"/>
            <a:ext cx="23731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字を選択→ホーム＞箇条書き＞行頭文字ライブラリ→任意の行頭文字を選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 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中をクリックしてカーソルがたったら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 flipH="1">
            <a:off x="929880" y="7454880"/>
            <a:ext cx="476280" cy="88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346640" y="7305840"/>
            <a:ext cx="2511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行を指定→デザイン＞ページ罫線＞網掛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→色・網掛け種類・設定対象を指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4479840" y="6730920"/>
            <a:ext cx="62712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27240" y="76320"/>
            <a:ext cx="4626000" cy="70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＞」記号は、リボン上のタブ、コマンド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ダブルクリック→ワードアート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説明書き段落間の「・・・・・・・」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破線上部は新しく設定する場合の説明、破線下部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は現状のものを修正する場合の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付きの説明書き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000680" y="5600880"/>
            <a:ext cx="283968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作成する行・列をドラッグする（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行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×11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列以内）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、作成する行・列を数値で指定す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、クイック表作成から選択す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各セルのテキスト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089240" y="3930480"/>
            <a:ext cx="1746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表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図 18" descr=""/>
          <p:cNvPicPr/>
          <p:nvPr/>
        </p:nvPicPr>
        <p:blipFill>
          <a:blip r:embed="rId2"/>
          <a:stretch/>
        </p:blipFill>
        <p:spPr>
          <a:xfrm>
            <a:off x="5126040" y="4119480"/>
            <a:ext cx="855720" cy="1312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8" name="図 1" descr=""/>
          <p:cNvPicPr/>
          <p:nvPr/>
        </p:nvPicPr>
        <p:blipFill>
          <a:blip r:embed="rId3"/>
          <a:stretch/>
        </p:blipFill>
        <p:spPr>
          <a:xfrm>
            <a:off x="5800680" y="7666200"/>
            <a:ext cx="928800" cy="537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9" name="図 2" descr=""/>
          <p:cNvPicPr/>
          <p:nvPr/>
        </p:nvPicPr>
        <p:blipFill>
          <a:blip r:embed="rId4"/>
          <a:stretch/>
        </p:blipFill>
        <p:spPr>
          <a:xfrm>
            <a:off x="5094360" y="8253360"/>
            <a:ext cx="1657440" cy="1414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0" name="図 4" descr=""/>
          <p:cNvPicPr/>
          <p:nvPr/>
        </p:nvPicPr>
        <p:blipFill>
          <a:blip r:embed="rId5"/>
          <a:stretch/>
        </p:blipFill>
        <p:spPr>
          <a:xfrm>
            <a:off x="90360" y="8370720"/>
            <a:ext cx="2295720" cy="462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1" name="図 5" descr=""/>
          <p:cNvPicPr/>
          <p:nvPr/>
        </p:nvPicPr>
        <p:blipFill>
          <a:blip r:embed="rId6"/>
          <a:stretch/>
        </p:blipFill>
        <p:spPr>
          <a:xfrm>
            <a:off x="1282680" y="8874000"/>
            <a:ext cx="1100160" cy="903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2" name="図 3" descr=""/>
          <p:cNvPicPr/>
          <p:nvPr/>
        </p:nvPicPr>
        <p:blipFill>
          <a:blip r:embed="rId7"/>
          <a:stretch/>
        </p:blipFill>
        <p:spPr>
          <a:xfrm>
            <a:off x="4233960" y="4129200"/>
            <a:ext cx="849240" cy="1303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3" name="図 6" descr=""/>
          <p:cNvPicPr/>
          <p:nvPr/>
        </p:nvPicPr>
        <p:blipFill>
          <a:blip r:embed="rId8"/>
          <a:stretch/>
        </p:blipFill>
        <p:spPr>
          <a:xfrm>
            <a:off x="5692680" y="4738680"/>
            <a:ext cx="749520" cy="789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65160" y="1901880"/>
            <a:ext cx="4927680" cy="69706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65" name="Text Box 2"/>
          <p:cNvSpPr/>
          <p:nvPr/>
        </p:nvSpPr>
        <p:spPr>
          <a:xfrm>
            <a:off x="0" y="252360"/>
            <a:ext cx="203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［報告レポート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－第二面－</a:t>
            </a:r>
            <a:r>
              <a:rPr b="1" i="1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ord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1714320" y="8445600"/>
            <a:ext cx="368280" cy="26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H="1" flipV="1">
            <a:off x="1101240" y="2339640"/>
            <a:ext cx="368280" cy="88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 flipV="1">
            <a:off x="4251240" y="4787640"/>
            <a:ext cx="308160" cy="46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 flipV="1">
            <a:off x="3181320" y="4762080"/>
            <a:ext cx="1352520" cy="44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2654280" y="6672240"/>
            <a:ext cx="8920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4832280" y="7988400"/>
            <a:ext cx="13032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7240" y="76320"/>
            <a:ext cx="4626000" cy="70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図＞ファイルから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ダブルクリック→ワードアート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説明書き段落間の「・・・・・・・」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破線上部は新しく設定する場合の説明、破線下部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は現状のものを修正する場合の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付きの説明書き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1979640" y="968400"/>
            <a:ext cx="285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作成する行・列をドラッグする（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行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×11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列以内）。または、作成する行・列を数値で指定す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、クイック表作成から選択す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31840" y="752400"/>
            <a:ext cx="17478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表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図 19" descr=""/>
          <p:cNvPicPr/>
          <p:nvPr/>
        </p:nvPicPr>
        <p:blipFill>
          <a:blip r:embed="rId2"/>
          <a:stretch/>
        </p:blipFill>
        <p:spPr>
          <a:xfrm>
            <a:off x="1157400" y="917640"/>
            <a:ext cx="822240" cy="1258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6" name="図 1" descr=""/>
          <p:cNvPicPr/>
          <p:nvPr/>
        </p:nvPicPr>
        <p:blipFill>
          <a:blip r:embed="rId3"/>
          <a:stretch/>
        </p:blipFill>
        <p:spPr>
          <a:xfrm>
            <a:off x="268200" y="915840"/>
            <a:ext cx="833400" cy="1276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7" name="図 2" descr=""/>
          <p:cNvPicPr/>
          <p:nvPr/>
        </p:nvPicPr>
        <p:blipFill>
          <a:blip r:embed="rId4"/>
          <a:stretch/>
        </p:blipFill>
        <p:spPr>
          <a:xfrm>
            <a:off x="1568520" y="1430280"/>
            <a:ext cx="750960" cy="789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78" name="Text Box 8"/>
          <p:cNvSpPr/>
          <p:nvPr/>
        </p:nvSpPr>
        <p:spPr>
          <a:xfrm>
            <a:off x="2363760" y="1438200"/>
            <a:ext cx="43005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グラフを削除する→挿入＞グラフ→適切なグラフ種類を選択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図 3" descr=""/>
          <p:cNvPicPr/>
          <p:nvPr/>
        </p:nvPicPr>
        <p:blipFill>
          <a:blip r:embed="rId5"/>
          <a:stretch/>
        </p:blipFill>
        <p:spPr>
          <a:xfrm>
            <a:off x="2394000" y="1787400"/>
            <a:ext cx="1152360" cy="444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0" name="Text Box 13"/>
          <p:cNvSpPr/>
          <p:nvPr/>
        </p:nvSpPr>
        <p:spPr>
          <a:xfrm>
            <a:off x="4581360" y="4879800"/>
            <a:ext cx="2276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任意の写真、イラストを指定・配置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図 27" descr=""/>
          <p:cNvPicPr/>
          <p:nvPr/>
        </p:nvPicPr>
        <p:blipFill>
          <a:blip r:embed="rId6"/>
          <a:stretch/>
        </p:blipFill>
        <p:spPr>
          <a:xfrm>
            <a:off x="4664160" y="4273560"/>
            <a:ext cx="1365120" cy="560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2" name="Text Box 15"/>
          <p:cNvSpPr/>
          <p:nvPr/>
        </p:nvSpPr>
        <p:spPr>
          <a:xfrm>
            <a:off x="4967280" y="6129360"/>
            <a:ext cx="17859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字を選択→ホーム＞箇条書き＞行頭文字ライブラリ→任意の行頭文字を選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 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中をクリックしてカーソルがたったら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図 29" descr=""/>
          <p:cNvPicPr/>
          <p:nvPr/>
        </p:nvPicPr>
        <p:blipFill>
          <a:blip r:embed="rId7"/>
          <a:stretch/>
        </p:blipFill>
        <p:spPr>
          <a:xfrm>
            <a:off x="2670120" y="6170760"/>
            <a:ext cx="2297160" cy="460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4" name="図 30" descr=""/>
          <p:cNvPicPr/>
          <p:nvPr/>
        </p:nvPicPr>
        <p:blipFill>
          <a:blip r:embed="rId8"/>
          <a:stretch/>
        </p:blipFill>
        <p:spPr>
          <a:xfrm>
            <a:off x="3862440" y="6672240"/>
            <a:ext cx="1100160" cy="903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5" name="Text Box 13"/>
          <p:cNvSpPr/>
          <p:nvPr/>
        </p:nvSpPr>
        <p:spPr>
          <a:xfrm>
            <a:off x="147600" y="9199440"/>
            <a:ext cx="2276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団体のロゴのファイルを指定す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図 32" descr=""/>
          <p:cNvPicPr/>
          <p:nvPr/>
        </p:nvPicPr>
        <p:blipFill>
          <a:blip r:embed="rId9"/>
          <a:stretch/>
        </p:blipFill>
        <p:spPr>
          <a:xfrm>
            <a:off x="252360" y="8566200"/>
            <a:ext cx="1365480" cy="560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7" name="Text Box 17"/>
          <p:cNvSpPr/>
          <p:nvPr/>
        </p:nvSpPr>
        <p:spPr>
          <a:xfrm>
            <a:off x="4227480" y="8528040"/>
            <a:ext cx="2511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行を指定→デザイン＞ページ罫線＞罫線タブをクリック、段落上部のみ二重線を指定してい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図 34" descr=""/>
          <p:cNvPicPr/>
          <p:nvPr/>
        </p:nvPicPr>
        <p:blipFill>
          <a:blip r:embed="rId10"/>
          <a:stretch/>
        </p:blipFill>
        <p:spPr>
          <a:xfrm>
            <a:off x="5719680" y="7861320"/>
            <a:ext cx="928800" cy="536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268200" y="7734240"/>
            <a:ext cx="6310440" cy="145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25:45Z</dcterms:created>
  <dc:creator>マイクロソフト株式会社</dc:creator>
  <dc:description/>
  <dc:language>en-US</dc:language>
  <cp:lastModifiedBy>Hidekazu Sakurai</cp:lastModifiedBy>
  <dcterms:modified xsi:type="dcterms:W3CDTF">2014-07-10T03:15:03Z</dcterms:modified>
  <cp:revision>244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</Properties>
</file>