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907588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753560" y="31428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b3b3ff"/>
                </a:solidFill>
                <a:latin typeface="Arial"/>
                <a:ea typeface="HGP創英角ｺﾞｼｯｸUB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集計テンプレート①②」ご利用の前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3826080" y="801720"/>
            <a:ext cx="1551960" cy="20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）本テンプレートは２種類あ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「集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emp①.x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、イベントの満足度（項目②）を縦棒グラフのみで表したもの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「集計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emp②.xl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は、イベントの満足度（項目②）の平均が出るようにしたもの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平均を出すか否かでどちらかを選んで使用してください。※その他の項目などは全く同じもの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１）本テンプレートは、「アンケート用紙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emp.doc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」と対応しています。アンケート用紙を編集して使用した場合は、集計テンプレート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項目名や項目数も変更が必要で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２）行や列を追加する場合は、計算式のズレなどに注意しましょう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433160" y="341640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3333ff"/>
                </a:solidFill>
                <a:latin typeface="Arial"/>
                <a:ea typeface="HGP創英角ｺﾞｼｯｸUB"/>
              </a:rPr>
              <a:t>●</a:t>
            </a:r>
            <a:r>
              <a:rPr b="0" lang="en-US" sz="1800" spc="-1" strike="noStrike">
                <a:solidFill>
                  <a:srgbClr val="b3b3ff"/>
                </a:solidFill>
                <a:latin typeface="Arial"/>
                <a:ea typeface="HGP創英角ｺﾞｼｯｸUB"/>
              </a:rPr>
              <a:t>●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「集計テンプレート①②」の構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1774440" y="3860640"/>
            <a:ext cx="14403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テンプレートは、それぞれ２種類のシートで構成され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t1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集計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t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）結果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09240" y="5343480"/>
            <a:ext cx="65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集計シート」で集計し、「結果シート」で結果をご覧くださ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「集計シート」に入力すると、「結果シート」の表・グラフは自動的に計算され、表示され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886280" y="3987720"/>
            <a:ext cx="2106720" cy="11876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229520" y="4224240"/>
            <a:ext cx="1251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タブをクリックし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シートを切り替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6110280" y="4424040"/>
            <a:ext cx="104760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517760" y="1511280"/>
            <a:ext cx="6608520" cy="429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41120" y="184320"/>
            <a:ext cx="30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集計テンプレート①②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集計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05000" y="814320"/>
            <a:ext cx="3191040" cy="50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クリックし、カーソルがたったら、項目名を打ち変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一部分のみ変更したい場合は、その文字の位置にマウスポインタを持っていき、ダブルクリックしてカーソルがたったら文字を打ちかえ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内は文字を折り返す設定になってい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662200" y="1278000"/>
            <a:ext cx="39528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4680" y="1076400"/>
            <a:ext cx="1414440" cy="698400"/>
          </a:xfrm>
          <a:prstGeom prst="wedgeRectCallout">
            <a:avLst>
              <a:gd name="adj1" fmla="val 77046"/>
              <a:gd name="adj2" fmla="val 5522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ンケート項目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記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4680" y="1870200"/>
            <a:ext cx="1414440" cy="698400"/>
          </a:xfrm>
          <a:prstGeom prst="wedgeRectCallout">
            <a:avLst>
              <a:gd name="adj1" fmla="val 84791"/>
              <a:gd name="adj2" fmla="val -1181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選択肢を記載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6960" y="5832360"/>
            <a:ext cx="1414440" cy="698760"/>
          </a:xfrm>
          <a:prstGeom prst="wedgeRectCallout">
            <a:avLst>
              <a:gd name="adj1" fmla="val 59425"/>
              <a:gd name="adj2" fmla="val -13818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アンケートの件数を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79800" y="2395440"/>
            <a:ext cx="5986440" cy="1414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959520" y="2951280"/>
            <a:ext cx="2687760" cy="903240"/>
          </a:xfrm>
          <a:prstGeom prst="wedgeRectCallout">
            <a:avLst>
              <a:gd name="adj1" fmla="val -49643"/>
              <a:gd name="adj2" fmla="val -9516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一行を一件としてアンケートを入力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選択肢のセルが黄色になっている列</a:t>
            </a:r>
            <a:r>
              <a:rPr b="0" lang="zh-CN" sz="1000" spc="-1" strike="noStrike">
                <a:solidFill>
                  <a:srgbClr val="ff0000"/>
                </a:solidFill>
                <a:latin typeface="Arial"/>
              </a:rPr>
              <a:t>以外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の列は、アンケートにチェックが入っていた場合にフラグを立てます。（数字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を入力しま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43680" y="2003400"/>
            <a:ext cx="642960" cy="36259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16560" y="927000"/>
            <a:ext cx="3340080" cy="609840"/>
          </a:xfrm>
          <a:prstGeom prst="wedgeRectCallout">
            <a:avLst>
              <a:gd name="adj1" fmla="val -42870"/>
              <a:gd name="adj2" fmla="val 14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黄色の列は、自由記述式の回答が入るセル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こにはアンケートに記載されている文章をそのまま入力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1120" y="184320"/>
            <a:ext cx="30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集計テンプレート①②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集計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138320" y="1149480"/>
            <a:ext cx="7627680" cy="4276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95480" y="3448080"/>
            <a:ext cx="2719440" cy="906480"/>
          </a:xfrm>
          <a:prstGeom prst="wedgeRectCallout">
            <a:avLst>
              <a:gd name="adj1" fmla="val -53967"/>
              <a:gd name="adj2" fmla="val 11532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本シートは、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件のアンケートまではそのまま入力できるようになっ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件を超える場合には、「▲挿入」の上に行を追加するようにし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55760" y="5705640"/>
            <a:ext cx="3438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行を追加する場合は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「▲挿入」の行を右クリック→挿入＞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で追加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0000"/>
                </a:solidFill>
                <a:latin typeface="Arial"/>
              </a:rPr>
              <a:t>注）合計の行をクリックして追加すると、計算式に反映されません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8840" y="5029200"/>
            <a:ext cx="877680" cy="868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783400" y="5516640"/>
            <a:ext cx="2284200" cy="906480"/>
          </a:xfrm>
          <a:prstGeom prst="wedgeRectCallout">
            <a:avLst>
              <a:gd name="adj1" fmla="val -46592"/>
              <a:gd name="adj2" fmla="val -8275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「合計」行のゴールドのセルには、計算式が入っています。ここを上書きすると、計算式が消え、結果シートも表示されなくなりますので、ご注意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41120" y="184320"/>
            <a:ext cx="30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集計テンプレート①②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結果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506600" y="1216080"/>
            <a:ext cx="6888240" cy="50274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5095800" y="1160640"/>
            <a:ext cx="2575080" cy="628560"/>
          </a:xfrm>
          <a:prstGeom prst="wedgeRectCallout">
            <a:avLst>
              <a:gd name="adj1" fmla="val -55916"/>
              <a:gd name="adj2" fmla="val 12828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イベント名や日付など、項目に書かれてい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内容を記入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547640" y="835200"/>
            <a:ext cx="195588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セルをダブルクリックし、カーソルがたったら、内容を入力します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3228840" y="1087200"/>
            <a:ext cx="596880" cy="919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39200" y="3513240"/>
            <a:ext cx="2106360" cy="628560"/>
          </a:xfrm>
          <a:prstGeom prst="wedgeRectCallout">
            <a:avLst>
              <a:gd name="adj1" fmla="val -89486"/>
              <a:gd name="adj2" fmla="val 934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グラフは左記の表と対応し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表に数字が表示されると同時に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グラフも表示され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22720" y="3078000"/>
            <a:ext cx="423720" cy="10479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7840" y="2678040"/>
            <a:ext cx="1963800" cy="1116000"/>
          </a:xfrm>
          <a:prstGeom prst="wedgeRectCallout">
            <a:avLst>
              <a:gd name="adj1" fmla="val 108041"/>
              <a:gd name="adj2" fmla="val 931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赤太線で囲んだ表の数字が表示されるセルには、計算式が入っ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のセルを上書きすると、集計シートの数字が反映されなくなりますので、ご注意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84520" y="4405320"/>
            <a:ext cx="1839600" cy="163836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" y="5721480"/>
            <a:ext cx="2251080" cy="628560"/>
          </a:xfrm>
          <a:prstGeom prst="wedgeRectCallout">
            <a:avLst>
              <a:gd name="adj1" fmla="val 37870"/>
              <a:gd name="adj2" fmla="val -22298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こには、その他の内容として記述されたものをコピーして貼り付け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3840" y="4525920"/>
            <a:ext cx="1612800" cy="180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135320" y="6243480"/>
            <a:ext cx="48452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「集計シート」の「その他の内容」列に内容が入力されたセルをクリック→編集＞コピ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「結果シート」へ移動して）貼り付けたいセルをクリック→編集＞貼り付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1120" y="184320"/>
            <a:ext cx="30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集計テンプレート①②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結果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73280" y="1189080"/>
            <a:ext cx="7711920" cy="289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03400" y="1827360"/>
            <a:ext cx="1582560" cy="2173320"/>
          </a:xfrm>
          <a:prstGeom prst="rect">
            <a:avLst/>
          </a:prstGeom>
          <a:noFill/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23760" y="4494240"/>
            <a:ext cx="2040120" cy="806400"/>
          </a:xfrm>
          <a:prstGeom prst="wedgeRectCallout">
            <a:avLst>
              <a:gd name="adj1" fmla="val 37"/>
              <a:gd name="adj2" fmla="val -20432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こには、自由記述式の回答を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コピーして貼り付け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（「その他の内容」と同じ要領です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27400" y="3008160"/>
            <a:ext cx="2193840" cy="1825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13320" y="4916520"/>
            <a:ext cx="4844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「集計シート」の自由記述式回答の列の、内容が入力されたセルをクリック→編集＞コピー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（「結果シート」へ移動して）貼り付けたいセルをクリック→編集＞貼り付け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00160" y="1333440"/>
            <a:ext cx="7707240" cy="4191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41120" y="184320"/>
            <a:ext cx="3087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［集計テンプレート②］操作解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000000"/>
                </a:solidFill>
                <a:latin typeface="Arial"/>
              </a:rPr>
              <a:t>結果シー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16120" y="52560"/>
            <a:ext cx="6321600" cy="5806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" spc="-1" strike="noStrike">
                <a:solidFill>
                  <a:srgbClr val="000000"/>
                </a:solidFill>
                <a:latin typeface="Arial"/>
              </a:rPr>
              <a:t>記号の意味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挿入＞図＞ファイルから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＞」記号は、メニュー名をたどること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ダブルクリック→ワードアート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「→」記号は、次のアクションを示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付きの説明書き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・・・操作のワンポイントアドバイ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65320" y="3602160"/>
            <a:ext cx="636840" cy="368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12840" y="4206960"/>
            <a:ext cx="2106360" cy="961920"/>
          </a:xfrm>
          <a:prstGeom prst="wedgeRectCallout">
            <a:avLst>
              <a:gd name="adj1" fmla="val 84060"/>
              <a:gd name="adj2" fmla="val -7970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合計と平均が表示されるセルに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計算式が入ってい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このセルを上書きすると、合計や</a:t>
            </a:r>
            <a:br>
              <a:rPr sz="1000"/>
            </a:b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平均が自動で表示されなくなりますので、ご注意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33668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02:25:45Z</dcterms:created>
  <dc:creator>マイクロソフト株式会社</dc:creator>
  <dc:description/>
  <dc:language>en-US</dc:language>
  <cp:lastModifiedBy>KN01</cp:lastModifiedBy>
  <dcterms:modified xsi:type="dcterms:W3CDTF">2009-11-19T00:40:33Z</dcterms:modified>
  <cp:revision>247</cp:revision>
  <dc:subject/>
  <dc:title>スライド 1</dc:title>
</cp:coreProperties>
</file>