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861840" y="2023920"/>
            <a:ext cx="5134320" cy="7332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9" name=""/>
          <p:cNvSpPr/>
          <p:nvPr/>
        </p:nvSpPr>
        <p:spPr>
          <a:xfrm>
            <a:off x="123840" y="355680"/>
            <a:ext cx="203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［アンケート用紙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127240" y="76320"/>
            <a:ext cx="462600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Arial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挿入＞図＞ファイルか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ダブルクリック→ワードアー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説明書き段落間の「・・・・・・・・・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破線上部は新しく設定する場合の説明、破線下部は現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　 のものを修正する場合の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付きの説明書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120" y="1465200"/>
            <a:ext cx="2048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文中をクリックし、カーソルがたった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文字を打ち変え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1653840" y="1711440"/>
            <a:ext cx="130500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1273320" y="1851120"/>
            <a:ext cx="504720" cy="12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60760" y="5103720"/>
            <a:ext cx="2397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罫線＞線種とページ罫線と網かけの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で、線の色の変更や罫線の削除ができ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00480" y="3978360"/>
            <a:ext cx="1387440" cy="108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06600" y="9263160"/>
            <a:ext cx="235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挿入＞図＞ファイル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団体ロゴのファイルを指定し、入れ替え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58920" y="9020160"/>
            <a:ext cx="1120680" cy="32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8110440"/>
            <a:ext cx="161316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ここにカーソルをたて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キーを押すと行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増やせ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815760" y="1860480"/>
            <a:ext cx="447480" cy="209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84760" y="5502240"/>
            <a:ext cx="797040" cy="206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69000" y="7515360"/>
            <a:ext cx="2890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43440" y="739152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3360" y="9047160"/>
            <a:ext cx="1521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オートシェイプを挿入し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いるので、図形をクリックし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上下左右にドラッグすれ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幅や長さが変更でき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50880" y="8026560"/>
            <a:ext cx="453960" cy="9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50880" y="8483400"/>
            <a:ext cx="473040" cy="52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4360" y="979560"/>
            <a:ext cx="4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ff"/>
                </a:solidFill>
                <a:latin typeface="Arial"/>
                <a:ea typeface="HGP創英角ｺﾞｼｯｸUB"/>
              </a:rPr>
              <a:t>イベント名や実施日、アンケート項目、選択肢の内容などは、書き換えてご利用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87280" y="7889760"/>
            <a:ext cx="6283440" cy="1355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25:45Z</dcterms:created>
  <dc:creator>マイクロソフト株式会社</dc:creator>
  <dc:description/>
  <dc:language>en-US</dc:language>
  <cp:lastModifiedBy>KN01</cp:lastModifiedBy>
  <dcterms:modified xsi:type="dcterms:W3CDTF">2009-11-19T00:40:39Z</dcterms:modified>
  <cp:revision>226</cp:revision>
  <dc:subject/>
  <dc:title>スライド 1</dc:title>
</cp:coreProperties>
</file>